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B447-902C-4CA6-BA17-EE1ECA44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D8AF-1F1B-4FCA-9AE2-94DFF245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1D0F-C656-4DB3-B984-F5CB0294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37C2-360E-43B9-8B8A-A0B4514C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8C84-E6C8-4F81-B516-0FC11510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9934-CDBB-4EFC-BEE2-06A16AF1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D93A-AA5F-4FA5-BD0A-3726DE03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291B-CEBD-4E60-A8C3-9FA60D6B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E75B-834B-4496-B17C-ED61DA0B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2EBB-67C9-4F65-81BF-97E4CAA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3048-A34E-4FF5-B731-62B87115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1159-800C-4876-A4BC-69662621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EE0-9167-45D6-B695-A565042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3556-6063-4E5B-B6E4-F7D4AA84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1BAC-0FF7-4924-8B49-6419F25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F829-2143-4688-9CFF-96E2C1CF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10D7-99A1-42CA-94C2-E4C3BDCF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5686-E2B0-4BC5-AC5B-1A6806B5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3C51-CB56-4941-9CAE-FA8142F4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8BB3-C657-4626-B9B9-7BF32C5B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2D48-A26F-47DE-A4EE-923FDB97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487B-E749-4C89-ADF9-82BBB93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A9C1-237A-4F99-B376-BB46A85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C4B9-BA2B-45AE-8874-927A5548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8EB9-0AE7-46D1-B5C0-2AB231FF1DBB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3828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29A-7443-4438-AF10-CC0DA98C7B1D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90040" y="1052640"/>
            <a:ext cx="7869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CONSULTAZIONE PARTENARIATO AREE INTERN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PROGRAMMA TRANSFRONTALIERO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INTERREG ITALIA-AUSTRIA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23/09/2020 Moggio Udines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4" descr="http://www.regione.fvg.it/rafvg/export/sites/default/RAFVG/fondi-europei-fvg-internazionale/POLITICHE_DI_COESIONE_2021-2027/img/politicheDiCoesione2021_2027infografica.png"/>
          <p:cNvPicPr/>
          <p:nvPr/>
        </p:nvPicPr>
        <p:blipFill>
          <a:blip r:embed="rId2"/>
          <a:stretch/>
        </p:blipFill>
        <p:spPr>
          <a:xfrm>
            <a:off x="2987640" y="4292640"/>
            <a:ext cx="338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000" y="83628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GRAZIE PER L’ATTENZIONE!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Programma Interreg Italia-Austria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Unità di coordinamento regionale per il Friuli Venezia Giulia 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ervizio relazioni internazionali e programmazione europe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Direttore di Servizio: Sandra Sodin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Referenti UCR: Susanna Buiatti - Gabriella Rigoni - Michela Grattoni -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Tiziana Pojani - Lorenzo Rizz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Buiatti: susanna.buiatt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goni: gabriella.rig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Grattoni: michela.gratt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Pojani: tiziana.poja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zzello: lorenzo.rizzello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UCR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interreg_italia-austria@regione.fvg.it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ito ufficiale del programma: www.interreg.ne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29480" y="0"/>
            <a:ext cx="2414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UN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8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89" name="Nuvola 1"/>
          <p:cNvSpPr/>
          <p:nvPr/>
        </p:nvSpPr>
        <p:spPr>
          <a:xfrm>
            <a:off x="755640" y="145080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7"/>
          <p:cNvSpPr/>
          <p:nvPr/>
        </p:nvSpPr>
        <p:spPr>
          <a:xfrm>
            <a:off x="2190600" y="1224000"/>
            <a:ext cx="453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AREA DI COOPERAZION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50.000 km</a:t>
            </a:r>
            <a:r>
              <a:rPr b="1" lang="it-IT" sz="1800" spc="-1" strike="noStrike" baseline="30000">
                <a:solidFill>
                  <a:srgbClr val="000000"/>
                </a:solidFill>
                <a:latin typeface="DecimaWE Rg"/>
                <a:ea typeface="Arial"/>
              </a:rPr>
              <a:t>2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- 5,5 Mio abitanti                                       5 regioni + 1 provincia - 19 aree NUTS 3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1" name="Picture 46" descr="karte_interreg"/>
          <p:cNvPicPr/>
          <p:nvPr/>
        </p:nvPicPr>
        <p:blipFill>
          <a:blip r:embed="rId1"/>
          <a:stretch/>
        </p:blipFill>
        <p:spPr>
          <a:xfrm>
            <a:off x="2843280" y="2395440"/>
            <a:ext cx="6246720" cy="3780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9"/>
          <p:cNvSpPr/>
          <p:nvPr/>
        </p:nvSpPr>
        <p:spPr>
          <a:xfrm>
            <a:off x="6072120" y="20289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DecimaWE Rg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539640" y="2211480"/>
            <a:ext cx="2210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1) Alto Adige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olzano         </a:t>
            </a: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2) Venet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elluno, Vicenza, Treviso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3) Friuli Venezia Giul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Pordenone, Udine, Gorizia, Trieste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4) Carinz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Klagenfurt-Villach, Unterkärnten, Oberkärnten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5) Salisburgo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Lungau, Pinzgau-Pongau, Salzburg und Umgebung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6) Tirol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 Tiroler Unterland, Innsbruck, Tiroler Oberland, Außerfern, Osttirol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4" name="Immagine 1" descr=""/>
          <p:cNvPicPr/>
          <p:nvPr/>
        </p:nvPicPr>
        <p:blipFill>
          <a:blip r:embed="rId2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7"/>
          <p:cNvSpPr/>
          <p:nvPr/>
        </p:nvSpPr>
        <p:spPr>
          <a:xfrm>
            <a:off x="1908000" y="6732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904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7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8" descr=""/>
          <p:cNvPicPr/>
          <p:nvPr/>
        </p:nvPicPr>
        <p:blipFill>
          <a:blip r:embed="rId2"/>
          <a:stretch/>
        </p:blipFill>
        <p:spPr>
          <a:xfrm>
            <a:off x="1042920" y="1576440"/>
            <a:ext cx="5689800" cy="120492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1" descr=""/>
          <p:cNvPicPr/>
          <p:nvPr/>
        </p:nvPicPr>
        <p:blipFill>
          <a:blip r:embed="rId3"/>
          <a:stretch/>
        </p:blipFill>
        <p:spPr>
          <a:xfrm>
            <a:off x="1036800" y="3100320"/>
            <a:ext cx="7135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04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CLLD HEurOpen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viluppo regionale a livello locale nell’ambito delle priorità «crescita intelligente», «crescita sostenibile» e «crescita inclusiva»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ei GAL Region Hermagor (KAR), GAL Openleader (FVG) e GAL Euroleader (FVG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Bandi a sport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1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4" descr=""/>
          <p:cNvPicPr/>
          <p:nvPr/>
        </p:nvPicPr>
        <p:blipFill>
          <a:blip r:embed="rId2"/>
          <a:stretch/>
        </p:blipFill>
        <p:spPr>
          <a:xfrm>
            <a:off x="700200" y="5229360"/>
            <a:ext cx="784224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1" descr=""/>
          <p:cNvPicPr/>
          <p:nvPr/>
        </p:nvPicPr>
        <p:blipFill>
          <a:blip r:embed="rId3"/>
          <a:stretch/>
        </p:blipFill>
        <p:spPr>
          <a:xfrm>
            <a:off x="711360" y="2725560"/>
            <a:ext cx="7831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0400" y="90756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PERCORSO PROGRAMMATORIO EFFETTUATO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2/10/2019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 Task Forc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istituzione TF 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vvio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poste di regolamento U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e Border Orientation Paper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P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icembre 2019-Gennaio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takeholder programma (254 risposte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14/01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 TF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secuzione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ocumenti strategici regional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tributi 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ultati valutazione programma 2014-2020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5/03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Maggi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nterviste con UC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Valutazione Ambientale Strategica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VA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Opzioni di Costo Semplificate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OC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6/05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I TF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: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ocumenti preparatori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nalisi territori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» e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poste strategich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lle principali sfide di sviluppo» +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4 Scenari alternativ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Luglio/Agost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 Scenari alternativ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identificazion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otenziali azioni, progetti e beneficiar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da finanziare nel periodo 21-27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55520"/>
            <a:ext cx="4824720" cy="6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STRUTTURA DEL PROGRAMMA</a:t>
            </a:r>
            <a:endParaRPr b="0" lang="en-US" sz="2000" spc="-1" strike="noStrike">
              <a:solidFill>
                <a:srgbClr val="0000ff"/>
              </a:solidFill>
              <a:latin typeface="DecimaWE Rg"/>
            </a:endParaRPr>
          </a:p>
        </p:txBody>
      </p:sp>
      <p:pic>
        <p:nvPicPr>
          <p:cNvPr id="108" name="Segnaposto contenuto 2" descr=""/>
          <p:cNvPicPr/>
          <p:nvPr/>
        </p:nvPicPr>
        <p:blipFill>
          <a:blip r:embed="rId2"/>
          <a:stretch/>
        </p:blipFill>
        <p:spPr>
          <a:xfrm>
            <a:off x="782640" y="907920"/>
            <a:ext cx="7845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PERCORSO PROGRAMMATORIO DA EFFETTUAR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Prim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zza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el 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9/09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V TF (verrà effettuata la scelta tra i 2 Scenari alternativi : lo scenario A è maggiormente supportato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-Otto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sultazione stakeholde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Novem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gramma definitivo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a presentare alla CE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0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TORNANDO ALL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2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13" name="Nuvola 1"/>
          <p:cNvSpPr/>
          <p:nvPr/>
        </p:nvSpPr>
        <p:spPr>
          <a:xfrm>
            <a:off x="755640" y="144288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6:52:50Z</dcterms:created>
  <dc:creator>Grattoni Michela</dc:creator>
  <dc:description/>
  <dc:language>en-US</dc:language>
  <cp:lastModifiedBy>Grattoni Michela</cp:lastModifiedBy>
  <cp:lastPrinted>2016-12-14T12:42:49Z</cp:lastPrinted>
  <dcterms:modified xsi:type="dcterms:W3CDTF">2020-09-17T15:38:30Z</dcterms:modified>
  <cp:revision>639</cp:revision>
  <dc:subject/>
  <dc:title>Slide Interreg Italia-Austria 2021-2027_21 luglio 2020</dc:title>
</cp:coreProperties>
</file>