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1.png" ContentType="image/png"/>
  <Override PartName="/ppt/media/image12.png" ContentType="image/png"/>
  <Override PartName="/ppt/media/image13.png" ContentType="image/png"/>
  <Override PartName="/ppt/media/image37.png" ContentType="image/png"/>
  <Override PartName="/ppt/media/image40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42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39.png" ContentType="image/png"/>
  <Override PartName="/ppt/media/image9.png" ContentType="image/png"/>
  <Override PartName="/ppt/media/image18.png" ContentType="image/png"/>
  <Override PartName="/ppt/media/image36.jpeg" ContentType="image/jpeg"/>
  <Override PartName="/ppt/media/image20.png" ContentType="image/png"/>
  <Override PartName="/ppt/media/image28.png" ContentType="image/png"/>
  <Override PartName="/ppt/media/image7.jpeg" ContentType="image/jpe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C13F-7350-4978-978F-975BAEAEAE2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6720-6C2F-4A02-9E0C-80752C8E6303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065240" y="685800"/>
            <a:ext cx="4740120" cy="35560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8CA2-F64A-4B05-89C3-C9F3DB3C4DE7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065240" y="685800"/>
            <a:ext cx="4740120" cy="35560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A43E-77C8-4ACB-AF5C-CF53C68610EC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065240" y="685800"/>
            <a:ext cx="4740120" cy="35560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1F80-E20C-4EB1-A197-C16C26EBD165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065240" y="685800"/>
            <a:ext cx="4740120" cy="35560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3915-D323-4CDB-8DF6-D0C403E583F8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065240" y="685800"/>
            <a:ext cx="4740120" cy="35560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7ACD-C6E2-4A9D-BFCE-4131B7974486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065240" y="685800"/>
            <a:ext cx="4740120" cy="35560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8FA1-09DB-4012-932E-1FDC5DAA598C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065240" y="685800"/>
            <a:ext cx="4740120" cy="35560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7CD8-BF21-4DAE-BDE8-9334DDB0EDAD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065240" y="685800"/>
            <a:ext cx="4740120" cy="35560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4E20-9D90-490B-A1EF-D3AB7679F7DC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065240" y="685800"/>
            <a:ext cx="4740120" cy="35560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CADD-7ECD-47F1-B275-0E239E32C889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065240" y="685800"/>
            <a:ext cx="4740120" cy="35560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F840-8F05-410E-A4FC-2391CB3AC6E6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065240" y="685800"/>
            <a:ext cx="4740120" cy="355608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C1BB-1E30-46FE-B181-F6A3D61BEE18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065240" y="685800"/>
            <a:ext cx="4740120" cy="35560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0D9C-A2EA-4A55-8E98-F846230FFF7B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065240" y="685800"/>
            <a:ext cx="4740120" cy="355608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CE44-696D-491E-9161-380794E55098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065240" y="685800"/>
            <a:ext cx="4740120" cy="355608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9D55-49E3-4AE7-B23C-DA2C2AD7E66D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065240" y="685800"/>
            <a:ext cx="4740120" cy="35560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8707-63D1-4EDA-819A-FC5E4B08FEB0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065240" y="685800"/>
            <a:ext cx="4740120" cy="35560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EB50-FE0E-4666-ABF0-FE43946E205C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065240" y="685800"/>
            <a:ext cx="4740120" cy="355608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2ACF-4EC3-44C7-ACBA-DB55A8E8CC12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065240" y="685800"/>
            <a:ext cx="4740120" cy="35560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992B-C686-4159-9E2F-95BD6B1CC16A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065240" y="685800"/>
            <a:ext cx="4740120" cy="35560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CC11-E40A-4FA1-9AA2-5D5C8D72DF87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065240" y="685800"/>
            <a:ext cx="4740120" cy="35560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1CB8-3B6F-457F-AEAB-C84E86A4A3B0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065240" y="685800"/>
            <a:ext cx="4740120" cy="35560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42640" y="353124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8320" y="11430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2640" y="353124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08320" y="353124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93240" y="114300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44200" y="114300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42640" y="353124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93240" y="353124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44200" y="353124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142640" y="11430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08320" y="114300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08320" y="114300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142640" y="353124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42640" y="11430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1430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008320" y="353124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08320" y="11430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42640" y="353124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142640" y="353124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8320" y="11430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2640" y="353124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5008320" y="353124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93240" y="114300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44200" y="114300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1142640" y="353124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693240" y="353124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244200" y="353124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08320" y="114300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08320" y="114300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42640" y="353124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1430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08320" y="353124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14300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42640" y="353124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5943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142640" y="11430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1142640" y="11430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10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10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10.png"/><Relationship Id="rId6" Type="http://schemas.openxmlformats.org/officeDocument/2006/relationships/image" Target="../media/image29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10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1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9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10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10.pn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10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10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1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10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10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10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10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10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10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0" y="5886360"/>
            <a:ext cx="9144000" cy="971640"/>
          </a:xfrm>
          <a:prstGeom prst="rect">
            <a:avLst/>
          </a:prstGeom>
          <a:ln w="0">
            <a:noFill/>
          </a:ln>
        </p:spPr>
      </p:pic>
      <p:sp>
        <p:nvSpPr>
          <p:cNvPr id="83" name="CasellaDiTesto 28"/>
          <p:cNvSpPr/>
          <p:nvPr/>
        </p:nvSpPr>
        <p:spPr>
          <a:xfrm>
            <a:off x="3203640" y="595008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DecimaWE Rg"/>
              </a:rPr>
              <a:t>24 novembre 2011 –  Ore 9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DecimaWE Rg"/>
              </a:rPr>
              <a:t>Provincia di Udine, Sede di Tolmezz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DecimaWE Rg"/>
              </a:rPr>
              <a:t>Via Carnia Libera 1944, 39 Tolmezz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2736720"/>
          </a:xfrm>
          <a:prstGeom prst="rect">
            <a:avLst/>
          </a:prstGeom>
          <a:ln w="0">
            <a:noFill/>
          </a:ln>
        </p:spPr>
      </p:pic>
      <p:sp>
        <p:nvSpPr>
          <p:cNvPr id="85" name="CasellaDiTesto 22"/>
          <p:cNvSpPr/>
          <p:nvPr/>
        </p:nvSpPr>
        <p:spPr>
          <a:xfrm>
            <a:off x="979560" y="851040"/>
            <a:ext cx="68436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DecimaWE Rg"/>
              </a:rPr>
              <a:t>PIANO DI GEST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DecimaWE Rg"/>
              </a:rPr>
              <a:t>DELLE AREE “NATURA 2000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DecimaWE Rg"/>
              </a:rPr>
              <a:t>ALPI CARNI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asellaDiTesto 23"/>
          <p:cNvSpPr/>
          <p:nvPr/>
        </p:nvSpPr>
        <p:spPr>
          <a:xfrm>
            <a:off x="684720" y="8492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DecimaWE Rg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asellaDiTesto 24"/>
          <p:cNvSpPr/>
          <p:nvPr/>
        </p:nvSpPr>
        <p:spPr>
          <a:xfrm>
            <a:off x="979560" y="1881360"/>
            <a:ext cx="4403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DecimaWE Rg"/>
              </a:rPr>
              <a:t>ZPS IT3321001 Alpi Carniche – SIC IT3320001 Gruppo del M.te Coglians – SIC IT3320002 Monti Dimon e Paularo – SIC IT3320003 Creta di Aip e Sella di Lanza – SIC IT3320004 Monte Auernig e Monte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Immagine 25" descr="bandiera2italia.gif"/>
          <p:cNvPicPr/>
          <p:nvPr/>
        </p:nvPicPr>
        <p:blipFill>
          <a:blip r:embed="rId3"/>
          <a:stretch/>
        </p:blipFill>
        <p:spPr>
          <a:xfrm>
            <a:off x="5896080" y="115920"/>
            <a:ext cx="736560" cy="468360"/>
          </a:xfrm>
          <a:prstGeom prst="rect">
            <a:avLst/>
          </a:prstGeom>
          <a:ln w="0">
            <a:noFill/>
          </a:ln>
        </p:spPr>
      </p:pic>
      <p:pic>
        <p:nvPicPr>
          <p:cNvPr id="89" name="Immagine 27" descr="Logo_N2000.jpg"/>
          <p:cNvPicPr/>
          <p:nvPr/>
        </p:nvPicPr>
        <p:blipFill>
          <a:blip r:embed="rId4"/>
          <a:stretch/>
        </p:blipFill>
        <p:spPr>
          <a:xfrm>
            <a:off x="8172360" y="44280"/>
            <a:ext cx="784440" cy="611280"/>
          </a:xfrm>
          <a:prstGeom prst="rect">
            <a:avLst/>
          </a:prstGeom>
          <a:ln w="0">
            <a:noFill/>
          </a:ln>
        </p:spPr>
      </p:pic>
      <p:pic>
        <p:nvPicPr>
          <p:cNvPr id="90" name="Immagine 29" descr="europa.tif"/>
          <p:cNvPicPr/>
          <p:nvPr/>
        </p:nvPicPr>
        <p:blipFill>
          <a:blip r:embed="rId5"/>
          <a:stretch/>
        </p:blipFill>
        <p:spPr>
          <a:xfrm>
            <a:off x="2556000" y="165240"/>
            <a:ext cx="1800000" cy="384120"/>
          </a:xfrm>
          <a:prstGeom prst="rect">
            <a:avLst/>
          </a:prstGeom>
          <a:ln w="0">
            <a:noFill/>
          </a:ln>
        </p:spPr>
      </p:pic>
      <p:sp>
        <p:nvSpPr>
          <p:cNvPr id="91" name="CasellaDiTesto 30"/>
          <p:cNvSpPr/>
          <p:nvPr/>
        </p:nvSpPr>
        <p:spPr>
          <a:xfrm>
            <a:off x="454320" y="300996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7f7f7f"/>
                </a:solidFill>
                <a:latin typeface="DecimaWE Rg"/>
              </a:rPr>
              <a:t>TAVOLI TEMATIC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uppo 31"/>
          <p:cNvGrpSpPr/>
          <p:nvPr/>
        </p:nvGrpSpPr>
        <p:grpSpPr>
          <a:xfrm>
            <a:off x="92160" y="3728880"/>
            <a:ext cx="9353520" cy="703440"/>
            <a:chOff x="92160" y="3728880"/>
            <a:chExt cx="9353520" cy="703440"/>
          </a:xfrm>
        </p:grpSpPr>
        <p:sp>
          <p:nvSpPr>
            <p:cNvPr id="93" name="CasellaDiTesto 32"/>
            <p:cNvSpPr/>
            <p:nvPr/>
          </p:nvSpPr>
          <p:spPr>
            <a:xfrm>
              <a:off x="92160" y="3728880"/>
              <a:ext cx="935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000" spc="-1" strike="noStrike">
                  <a:solidFill>
                    <a:srgbClr val="595959"/>
                  </a:solidFill>
                  <a:latin typeface="DecimaWE Rg"/>
                </a:rPr>
                <a:t>TAVOLO TECNICO AMMINISTRATIV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Connettore 1 33"/>
            <p:cNvSpPr/>
            <p:nvPr/>
          </p:nvSpPr>
          <p:spPr>
            <a:xfrm>
              <a:off x="736560" y="4395960"/>
              <a:ext cx="7993080" cy="0"/>
            </a:xfrm>
            <a:prstGeom prst="line">
              <a:avLst/>
            </a:prstGeom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CasellaDiTesto 34"/>
          <p:cNvSpPr/>
          <p:nvPr/>
        </p:nvSpPr>
        <p:spPr>
          <a:xfrm>
            <a:off x="684360" y="5138640"/>
            <a:ext cx="2950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DecimaWE Rg"/>
              </a:rPr>
              <a:t>PARTECI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DecimaWE Rg"/>
              </a:rPr>
              <a:t>significa essere protagonisti delle scelte di sviluppo del proprio territori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uppo 20"/>
          <p:cNvGrpSpPr/>
          <p:nvPr/>
        </p:nvGrpSpPr>
        <p:grpSpPr>
          <a:xfrm>
            <a:off x="0" y="44280"/>
            <a:ext cx="9144000" cy="7123680"/>
            <a:chOff x="0" y="44280"/>
            <a:chExt cx="9144000" cy="7123680"/>
          </a:xfrm>
        </p:grpSpPr>
        <p:pic>
          <p:nvPicPr>
            <p:cNvPr id="198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6525360"/>
              <a:ext cx="9144000" cy="3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Immagine 25" descr="bandiera2italia.gif"/>
            <p:cNvPicPr/>
            <p:nvPr/>
          </p:nvPicPr>
          <p:blipFill>
            <a:blip r:embed="rId2"/>
            <a:stretch/>
          </p:blipFill>
          <p:spPr>
            <a:xfrm>
              <a:off x="5895720" y="116280"/>
              <a:ext cx="736560" cy="4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Immagine 27" descr="Logo_N2000.jpg"/>
            <p:cNvPicPr/>
            <p:nvPr/>
          </p:nvPicPr>
          <p:blipFill>
            <a:blip r:embed="rId3"/>
            <a:stretch/>
          </p:blipFill>
          <p:spPr>
            <a:xfrm>
              <a:off x="8172720" y="44280"/>
              <a:ext cx="7844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Immagine 29" descr="europa.tif"/>
            <p:cNvPicPr/>
            <p:nvPr/>
          </p:nvPicPr>
          <p:blipFill>
            <a:blip r:embed="rId4"/>
            <a:stretch/>
          </p:blipFill>
          <p:spPr>
            <a:xfrm>
              <a:off x="2555640" y="164160"/>
              <a:ext cx="180000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4" descr=""/>
            <p:cNvPicPr/>
            <p:nvPr/>
          </p:nvPicPr>
          <p:blipFill>
            <a:blip r:embed="rId5"/>
            <a:stretch/>
          </p:blipFill>
          <p:spPr>
            <a:xfrm>
              <a:off x="611280" y="692280"/>
              <a:ext cx="853272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CasellaDiTesto 16"/>
            <p:cNvSpPr/>
            <p:nvPr/>
          </p:nvSpPr>
          <p:spPr>
            <a:xfrm>
              <a:off x="541080" y="596520"/>
              <a:ext cx="86029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ffff"/>
                  </a:solidFill>
                  <a:latin typeface="DecimaWE Rg"/>
                </a:rPr>
                <a:t>PIANO DI GESTION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199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DecimaWE Rg"/>
                </a:rPr>
                <a:t>DELLE AREE “NATURA 2000” ALPI CARNICH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CasellaDiTesto 17"/>
            <p:cNvSpPr/>
            <p:nvPr/>
          </p:nvSpPr>
          <p:spPr>
            <a:xfrm>
              <a:off x="3131640" y="6516000"/>
              <a:ext cx="59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DecimaWE Rg"/>
                </a:rPr>
                <a:t>Tolmezzo, 24 Novembre 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CasellaDiTesto 19"/>
            <p:cNvSpPr/>
            <p:nvPr/>
          </p:nvSpPr>
          <p:spPr>
            <a:xfrm>
              <a:off x="0" y="6525360"/>
              <a:ext cx="384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DecimaWE Rg"/>
                </a:rPr>
                <a:t>TAVOLO TECNICO AMMINIST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6" name="Picture 2" descr=""/>
          <p:cNvPicPr/>
          <p:nvPr/>
        </p:nvPicPr>
        <p:blipFill>
          <a:blip r:embed="rId6"/>
          <a:stretch/>
        </p:blipFill>
        <p:spPr>
          <a:xfrm>
            <a:off x="539640" y="1484280"/>
            <a:ext cx="5040360" cy="3192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"/>
          <p:cNvPicPr/>
          <p:nvPr/>
        </p:nvPicPr>
        <p:blipFill>
          <a:blip r:embed="rId7"/>
          <a:stretch/>
        </p:blipFill>
        <p:spPr>
          <a:xfrm>
            <a:off x="4205160" y="3284640"/>
            <a:ext cx="483084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uppo 20"/>
          <p:cNvGrpSpPr/>
          <p:nvPr/>
        </p:nvGrpSpPr>
        <p:grpSpPr>
          <a:xfrm>
            <a:off x="0" y="44280"/>
            <a:ext cx="9144000" cy="7123680"/>
            <a:chOff x="0" y="44280"/>
            <a:chExt cx="9144000" cy="7123680"/>
          </a:xfrm>
        </p:grpSpPr>
        <p:pic>
          <p:nvPicPr>
            <p:cNvPr id="209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6525360"/>
              <a:ext cx="9144000" cy="3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Immagine 25" descr="bandiera2italia.gif"/>
            <p:cNvPicPr/>
            <p:nvPr/>
          </p:nvPicPr>
          <p:blipFill>
            <a:blip r:embed="rId2"/>
            <a:stretch/>
          </p:blipFill>
          <p:spPr>
            <a:xfrm>
              <a:off x="5895720" y="116280"/>
              <a:ext cx="736560" cy="4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Immagine 27" descr="Logo_N2000.jpg"/>
            <p:cNvPicPr/>
            <p:nvPr/>
          </p:nvPicPr>
          <p:blipFill>
            <a:blip r:embed="rId3"/>
            <a:stretch/>
          </p:blipFill>
          <p:spPr>
            <a:xfrm>
              <a:off x="8172720" y="44280"/>
              <a:ext cx="7844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Immagine 29" descr="europa.tif"/>
            <p:cNvPicPr/>
            <p:nvPr/>
          </p:nvPicPr>
          <p:blipFill>
            <a:blip r:embed="rId4"/>
            <a:stretch/>
          </p:blipFill>
          <p:spPr>
            <a:xfrm>
              <a:off x="2555640" y="164160"/>
              <a:ext cx="180000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4" descr=""/>
            <p:cNvPicPr/>
            <p:nvPr/>
          </p:nvPicPr>
          <p:blipFill>
            <a:blip r:embed="rId5"/>
            <a:stretch/>
          </p:blipFill>
          <p:spPr>
            <a:xfrm>
              <a:off x="611280" y="692280"/>
              <a:ext cx="853272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CasellaDiTesto 16"/>
            <p:cNvSpPr/>
            <p:nvPr/>
          </p:nvSpPr>
          <p:spPr>
            <a:xfrm>
              <a:off x="541080" y="596520"/>
              <a:ext cx="86029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ffff"/>
                  </a:solidFill>
                  <a:latin typeface="DecimaWE Rg"/>
                </a:rPr>
                <a:t>PIANO DI GESTION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199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DecimaWE Rg"/>
                </a:rPr>
                <a:t>DELLE AREE “NATURA 2000” ALPI CARNICH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CasellaDiTesto 17"/>
            <p:cNvSpPr/>
            <p:nvPr/>
          </p:nvSpPr>
          <p:spPr>
            <a:xfrm>
              <a:off x="3131640" y="6516000"/>
              <a:ext cx="59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DecimaWE Rg"/>
                </a:rPr>
                <a:t>Tolmezzo, 24 Novembre 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CasellaDiTesto 19"/>
            <p:cNvSpPr/>
            <p:nvPr/>
          </p:nvSpPr>
          <p:spPr>
            <a:xfrm>
              <a:off x="0" y="6525360"/>
              <a:ext cx="384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DecimaWE Rg"/>
                </a:rPr>
                <a:t>TAVOLO TECNICO AMMINIST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Picture 2" descr=""/>
          <p:cNvPicPr/>
          <p:nvPr/>
        </p:nvPicPr>
        <p:blipFill>
          <a:blip r:embed="rId6"/>
          <a:stretch/>
        </p:blipFill>
        <p:spPr>
          <a:xfrm>
            <a:off x="1763640" y="1717560"/>
            <a:ext cx="7056360" cy="4572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7"/>
          <a:stretch/>
        </p:blipFill>
        <p:spPr>
          <a:xfrm>
            <a:off x="468360" y="4653000"/>
            <a:ext cx="2519280" cy="1865160"/>
          </a:xfrm>
          <a:prstGeom prst="rect">
            <a:avLst/>
          </a:prstGeom>
          <a:ln w="0">
            <a:noFill/>
          </a:ln>
        </p:spPr>
      </p:pic>
      <p:sp>
        <p:nvSpPr>
          <p:cNvPr id="219" name="CasellaDiTesto 12"/>
          <p:cNvSpPr/>
          <p:nvPr/>
        </p:nvSpPr>
        <p:spPr>
          <a:xfrm>
            <a:off x="175320" y="1484280"/>
            <a:ext cx="5340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Estratto Carta delle pressioni e loro interfer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uppo 20"/>
          <p:cNvGrpSpPr/>
          <p:nvPr/>
        </p:nvGrpSpPr>
        <p:grpSpPr>
          <a:xfrm>
            <a:off x="0" y="44280"/>
            <a:ext cx="9144000" cy="7123680"/>
            <a:chOff x="0" y="44280"/>
            <a:chExt cx="9144000" cy="7123680"/>
          </a:xfrm>
        </p:grpSpPr>
        <p:pic>
          <p:nvPicPr>
            <p:cNvPr id="221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6525360"/>
              <a:ext cx="9144000" cy="3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Immagine 25" descr="bandiera2italia.gif"/>
            <p:cNvPicPr/>
            <p:nvPr/>
          </p:nvPicPr>
          <p:blipFill>
            <a:blip r:embed="rId2"/>
            <a:stretch/>
          </p:blipFill>
          <p:spPr>
            <a:xfrm>
              <a:off x="5895720" y="116280"/>
              <a:ext cx="736560" cy="4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Immagine 27" descr="Logo_N2000.jpg"/>
            <p:cNvPicPr/>
            <p:nvPr/>
          </p:nvPicPr>
          <p:blipFill>
            <a:blip r:embed="rId3"/>
            <a:stretch/>
          </p:blipFill>
          <p:spPr>
            <a:xfrm>
              <a:off x="8172720" y="44280"/>
              <a:ext cx="7844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Immagine 29" descr="europa.tif"/>
            <p:cNvPicPr/>
            <p:nvPr/>
          </p:nvPicPr>
          <p:blipFill>
            <a:blip r:embed="rId4"/>
            <a:stretch/>
          </p:blipFill>
          <p:spPr>
            <a:xfrm>
              <a:off x="2555640" y="164160"/>
              <a:ext cx="180000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4" descr=""/>
            <p:cNvPicPr/>
            <p:nvPr/>
          </p:nvPicPr>
          <p:blipFill>
            <a:blip r:embed="rId5"/>
            <a:stretch/>
          </p:blipFill>
          <p:spPr>
            <a:xfrm>
              <a:off x="611280" y="692280"/>
              <a:ext cx="853272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CasellaDiTesto 16"/>
            <p:cNvSpPr/>
            <p:nvPr/>
          </p:nvSpPr>
          <p:spPr>
            <a:xfrm>
              <a:off x="541080" y="596520"/>
              <a:ext cx="86029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ffff"/>
                  </a:solidFill>
                  <a:latin typeface="DecimaWE Rg"/>
                </a:rPr>
                <a:t>PIANO DI GESTION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199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DecimaWE Rg"/>
                </a:rPr>
                <a:t>DELLE AREE “NATURA 2000” ALPI CARNICH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CasellaDiTesto 17"/>
            <p:cNvSpPr/>
            <p:nvPr/>
          </p:nvSpPr>
          <p:spPr>
            <a:xfrm>
              <a:off x="3131640" y="6516000"/>
              <a:ext cx="59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DecimaWE Rg"/>
                </a:rPr>
                <a:t>Tolmezzo, 24 Novembre 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CasellaDiTesto 19"/>
            <p:cNvSpPr/>
            <p:nvPr/>
          </p:nvSpPr>
          <p:spPr>
            <a:xfrm>
              <a:off x="0" y="6525360"/>
              <a:ext cx="384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DecimaWE Rg"/>
                </a:rPr>
                <a:t>TAVOLO TECNICO AMMINIST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Picture 4" descr=""/>
          <p:cNvPicPr/>
          <p:nvPr/>
        </p:nvPicPr>
        <p:blipFill>
          <a:blip r:embed="rId6"/>
          <a:stretch/>
        </p:blipFill>
        <p:spPr>
          <a:xfrm>
            <a:off x="1835280" y="1484280"/>
            <a:ext cx="7121520" cy="4392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"/>
          <p:cNvPicPr/>
          <p:nvPr/>
        </p:nvPicPr>
        <p:blipFill>
          <a:blip r:embed="rId7"/>
          <a:stretch/>
        </p:blipFill>
        <p:spPr>
          <a:xfrm>
            <a:off x="539640" y="4508640"/>
            <a:ext cx="2519640" cy="1865160"/>
          </a:xfrm>
          <a:prstGeom prst="rect">
            <a:avLst/>
          </a:prstGeom>
          <a:ln w="0">
            <a:noFill/>
          </a:ln>
        </p:spPr>
      </p:pic>
      <p:sp>
        <p:nvSpPr>
          <p:cNvPr id="231" name="CasellaDiTesto 20"/>
          <p:cNvSpPr/>
          <p:nvPr/>
        </p:nvSpPr>
        <p:spPr>
          <a:xfrm>
            <a:off x="175320" y="1484280"/>
            <a:ext cx="5340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Estratto Carta delle pressioni e loro interfer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uppo 20"/>
          <p:cNvGrpSpPr/>
          <p:nvPr/>
        </p:nvGrpSpPr>
        <p:grpSpPr>
          <a:xfrm>
            <a:off x="0" y="44280"/>
            <a:ext cx="9144000" cy="7123680"/>
            <a:chOff x="0" y="44280"/>
            <a:chExt cx="9144000" cy="7123680"/>
          </a:xfrm>
        </p:grpSpPr>
        <p:pic>
          <p:nvPicPr>
            <p:cNvPr id="233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6525360"/>
              <a:ext cx="9144000" cy="3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Immagine 25" descr="bandiera2italia.gif"/>
            <p:cNvPicPr/>
            <p:nvPr/>
          </p:nvPicPr>
          <p:blipFill>
            <a:blip r:embed="rId2"/>
            <a:stretch/>
          </p:blipFill>
          <p:spPr>
            <a:xfrm>
              <a:off x="5895720" y="116280"/>
              <a:ext cx="736560" cy="4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Immagine 27" descr="Logo_N2000.jpg"/>
            <p:cNvPicPr/>
            <p:nvPr/>
          </p:nvPicPr>
          <p:blipFill>
            <a:blip r:embed="rId3"/>
            <a:stretch/>
          </p:blipFill>
          <p:spPr>
            <a:xfrm>
              <a:off x="8172720" y="44280"/>
              <a:ext cx="7844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Immagine 29" descr="europa.tif"/>
            <p:cNvPicPr/>
            <p:nvPr/>
          </p:nvPicPr>
          <p:blipFill>
            <a:blip r:embed="rId4"/>
            <a:stretch/>
          </p:blipFill>
          <p:spPr>
            <a:xfrm>
              <a:off x="2555640" y="164160"/>
              <a:ext cx="180000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4" descr=""/>
            <p:cNvPicPr/>
            <p:nvPr/>
          </p:nvPicPr>
          <p:blipFill>
            <a:blip r:embed="rId5"/>
            <a:stretch/>
          </p:blipFill>
          <p:spPr>
            <a:xfrm>
              <a:off x="611280" y="692280"/>
              <a:ext cx="853272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CasellaDiTesto 16"/>
            <p:cNvSpPr/>
            <p:nvPr/>
          </p:nvSpPr>
          <p:spPr>
            <a:xfrm>
              <a:off x="541080" y="596520"/>
              <a:ext cx="86029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ffff"/>
                  </a:solidFill>
                  <a:latin typeface="DecimaWE Rg"/>
                </a:rPr>
                <a:t>PIANO DI GESTION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199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DecimaWE Rg"/>
                </a:rPr>
                <a:t>DELLE AREE “NATURA 2000” ALPI CARNICH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CasellaDiTesto 17"/>
            <p:cNvSpPr/>
            <p:nvPr/>
          </p:nvSpPr>
          <p:spPr>
            <a:xfrm>
              <a:off x="3131640" y="6516000"/>
              <a:ext cx="59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DecimaWE Rg"/>
                </a:rPr>
                <a:t>Tolmezzo, 24 Novembre 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CasellaDiTesto 19"/>
            <p:cNvSpPr/>
            <p:nvPr/>
          </p:nvSpPr>
          <p:spPr>
            <a:xfrm>
              <a:off x="0" y="6525360"/>
              <a:ext cx="384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DecimaWE Rg"/>
                </a:rPr>
                <a:t>TAVOLO TECNICO AMMINIST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Immagine 12" descr=""/>
          <p:cNvPicPr/>
          <p:nvPr/>
        </p:nvPicPr>
        <p:blipFill>
          <a:blip r:embed="rId6"/>
          <a:stretch/>
        </p:blipFill>
        <p:spPr>
          <a:xfrm>
            <a:off x="1603440" y="2205000"/>
            <a:ext cx="5937120" cy="4068720"/>
          </a:xfrm>
          <a:prstGeom prst="rect">
            <a:avLst/>
          </a:prstGeom>
          <a:ln w="0">
            <a:noFill/>
          </a:ln>
        </p:spPr>
      </p:pic>
      <p:sp>
        <p:nvSpPr>
          <p:cNvPr id="242" name="CasellaDiTesto 13"/>
          <p:cNvSpPr/>
          <p:nvPr/>
        </p:nvSpPr>
        <p:spPr>
          <a:xfrm>
            <a:off x="-20880" y="1619280"/>
            <a:ext cx="88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Obiettivi di conservazione strategici e specifici per la ZPS IT3321001 Alpi Carn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uppo 20"/>
          <p:cNvGrpSpPr/>
          <p:nvPr/>
        </p:nvGrpSpPr>
        <p:grpSpPr>
          <a:xfrm>
            <a:off x="0" y="44280"/>
            <a:ext cx="9144000" cy="7123680"/>
            <a:chOff x="0" y="44280"/>
            <a:chExt cx="9144000" cy="7123680"/>
          </a:xfrm>
        </p:grpSpPr>
        <p:pic>
          <p:nvPicPr>
            <p:cNvPr id="244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6525360"/>
              <a:ext cx="9144000" cy="3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Immagine 25" descr="bandiera2italia.gif"/>
            <p:cNvPicPr/>
            <p:nvPr/>
          </p:nvPicPr>
          <p:blipFill>
            <a:blip r:embed="rId2"/>
            <a:stretch/>
          </p:blipFill>
          <p:spPr>
            <a:xfrm>
              <a:off x="5895720" y="116280"/>
              <a:ext cx="736560" cy="4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Immagine 27" descr="Logo_N2000.jpg"/>
            <p:cNvPicPr/>
            <p:nvPr/>
          </p:nvPicPr>
          <p:blipFill>
            <a:blip r:embed="rId3"/>
            <a:stretch/>
          </p:blipFill>
          <p:spPr>
            <a:xfrm>
              <a:off x="8172720" y="44280"/>
              <a:ext cx="7844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Immagine 29" descr="europa.tif"/>
            <p:cNvPicPr/>
            <p:nvPr/>
          </p:nvPicPr>
          <p:blipFill>
            <a:blip r:embed="rId4"/>
            <a:stretch/>
          </p:blipFill>
          <p:spPr>
            <a:xfrm>
              <a:off x="2555640" y="164160"/>
              <a:ext cx="180000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" descr=""/>
            <p:cNvPicPr/>
            <p:nvPr/>
          </p:nvPicPr>
          <p:blipFill>
            <a:blip r:embed="rId5"/>
            <a:stretch/>
          </p:blipFill>
          <p:spPr>
            <a:xfrm>
              <a:off x="611280" y="692280"/>
              <a:ext cx="853272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CasellaDiTesto 16"/>
            <p:cNvSpPr/>
            <p:nvPr/>
          </p:nvSpPr>
          <p:spPr>
            <a:xfrm>
              <a:off x="541080" y="596520"/>
              <a:ext cx="86029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ffff"/>
                  </a:solidFill>
                  <a:latin typeface="DecimaWE Rg"/>
                </a:rPr>
                <a:t>PIANO DI GESTION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199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DecimaWE Rg"/>
                </a:rPr>
                <a:t>DELLE AREE “NATURA 2000” ALPI CARNICH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CasellaDiTesto 17"/>
            <p:cNvSpPr/>
            <p:nvPr/>
          </p:nvSpPr>
          <p:spPr>
            <a:xfrm>
              <a:off x="3131640" y="6516000"/>
              <a:ext cx="59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DecimaWE Rg"/>
                </a:rPr>
                <a:t>Tolmezzo, 24 Novembre 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CasellaDiTesto 19"/>
            <p:cNvSpPr/>
            <p:nvPr/>
          </p:nvSpPr>
          <p:spPr>
            <a:xfrm>
              <a:off x="0" y="6525360"/>
              <a:ext cx="384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DecimaWE Rg"/>
                </a:rPr>
                <a:t>TAVOLO TECNICO AMMINIST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CasellaDiTesto 13"/>
          <p:cNvSpPr/>
          <p:nvPr/>
        </p:nvSpPr>
        <p:spPr>
          <a:xfrm>
            <a:off x="-168120" y="1619280"/>
            <a:ext cx="99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Obiettivi di conservazione strategici e specifici per il SIC IT3320004 Monti Auernig e 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Immagine 14" descr=""/>
          <p:cNvPicPr/>
          <p:nvPr/>
        </p:nvPicPr>
        <p:blipFill>
          <a:blip r:embed="rId6"/>
          <a:stretch/>
        </p:blipFill>
        <p:spPr>
          <a:xfrm>
            <a:off x="1603440" y="2205000"/>
            <a:ext cx="593712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uppo 20"/>
          <p:cNvGrpSpPr/>
          <p:nvPr/>
        </p:nvGrpSpPr>
        <p:grpSpPr>
          <a:xfrm>
            <a:off x="0" y="44280"/>
            <a:ext cx="9144000" cy="7123680"/>
            <a:chOff x="0" y="44280"/>
            <a:chExt cx="9144000" cy="7123680"/>
          </a:xfrm>
        </p:grpSpPr>
        <p:pic>
          <p:nvPicPr>
            <p:cNvPr id="255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6525360"/>
              <a:ext cx="9144000" cy="3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Immagine 25" descr="bandiera2italia.gif"/>
            <p:cNvPicPr/>
            <p:nvPr/>
          </p:nvPicPr>
          <p:blipFill>
            <a:blip r:embed="rId2"/>
            <a:stretch/>
          </p:blipFill>
          <p:spPr>
            <a:xfrm>
              <a:off x="5895720" y="116280"/>
              <a:ext cx="736560" cy="4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Immagine 27" descr="Logo_N2000.jpg"/>
            <p:cNvPicPr/>
            <p:nvPr/>
          </p:nvPicPr>
          <p:blipFill>
            <a:blip r:embed="rId3"/>
            <a:stretch/>
          </p:blipFill>
          <p:spPr>
            <a:xfrm>
              <a:off x="8172720" y="44280"/>
              <a:ext cx="7844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Immagine 29" descr="europa.tif"/>
            <p:cNvPicPr/>
            <p:nvPr/>
          </p:nvPicPr>
          <p:blipFill>
            <a:blip r:embed="rId4"/>
            <a:stretch/>
          </p:blipFill>
          <p:spPr>
            <a:xfrm>
              <a:off x="2555640" y="164160"/>
              <a:ext cx="180000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4" descr=""/>
            <p:cNvPicPr/>
            <p:nvPr/>
          </p:nvPicPr>
          <p:blipFill>
            <a:blip r:embed="rId5"/>
            <a:stretch/>
          </p:blipFill>
          <p:spPr>
            <a:xfrm>
              <a:off x="611280" y="692280"/>
              <a:ext cx="853272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CasellaDiTesto 16"/>
            <p:cNvSpPr/>
            <p:nvPr/>
          </p:nvSpPr>
          <p:spPr>
            <a:xfrm>
              <a:off x="541080" y="596520"/>
              <a:ext cx="86029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ffff"/>
                  </a:solidFill>
                  <a:latin typeface="DecimaWE Rg"/>
                </a:rPr>
                <a:t>PIANO DI GESTION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199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DecimaWE Rg"/>
                </a:rPr>
                <a:t>DELLE AREE “NATURA 2000” ALPI CARNICH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CasellaDiTesto 17"/>
            <p:cNvSpPr/>
            <p:nvPr/>
          </p:nvSpPr>
          <p:spPr>
            <a:xfrm>
              <a:off x="3131640" y="6516000"/>
              <a:ext cx="59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DecimaWE Rg"/>
                </a:rPr>
                <a:t>Tolmezzo, 24 Novembre 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CasellaDiTesto 19"/>
            <p:cNvSpPr/>
            <p:nvPr/>
          </p:nvSpPr>
          <p:spPr>
            <a:xfrm>
              <a:off x="0" y="6525360"/>
              <a:ext cx="384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DecimaWE Rg"/>
                </a:rPr>
                <a:t>TAVOLO TECNICO AMMINIST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CasellaDiTesto 13"/>
          <p:cNvSpPr/>
          <p:nvPr/>
        </p:nvSpPr>
        <p:spPr>
          <a:xfrm>
            <a:off x="-158760" y="1619280"/>
            <a:ext cx="93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Individuazioni di alcuni punti di possibile criticità tra strumenti pianificatori comuna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CasellaDiTesto 12"/>
          <p:cNvSpPr/>
          <p:nvPr/>
        </p:nvSpPr>
        <p:spPr>
          <a:xfrm>
            <a:off x="684360" y="2708280"/>
            <a:ext cx="7775280" cy="37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DecimaWE Rg"/>
              </a:rPr>
              <a:t>Le analisi di confronto tra perimetri e contenuti della ZPS ed alcune zonizzazioni dei PRGC ha evidenziato solamente pochissime aree in cui è necessario un ragionamento congiunto con le Amministrazioni comunal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DecimaWE Rg"/>
              </a:rPr>
              <a:t>Si tratta in generale di aree con previsioni non ancora realizzate e che potrebbero confliggere con gli obbiettivi del sito N2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DecimaWE Rg"/>
              </a:rPr>
              <a:t>Siccome solo le Amministrazioni comunali conoscono motivazioni e possibili sviluppi di queste aree, eventuali soluzioni derivano da un puntuale confronto e  possono essere diversifica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DecimaWE Rg"/>
              </a:rPr>
              <a:t>Ad esempi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DecimaWE Rg"/>
              </a:rPr>
              <a:t>L’area è marginale e non si prevedono sviluppi per cui potrebbe essere stralciata in una vari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DecimaWE Rg"/>
              </a:rPr>
              <a:t>L’area è già parzialmente utilizzata per cui potrebbero essere eventualmente aggiornate alcune nor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DecimaWE Rg"/>
              </a:rPr>
              <a:t>L’area ha in previsione un intervento significativo, che comunque fa valutazione di incidenza (in corso o già effettu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CasellaDiTesto 14"/>
          <p:cNvSpPr/>
          <p:nvPr/>
        </p:nvSpPr>
        <p:spPr>
          <a:xfrm>
            <a:off x="684360" y="206064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La L.R. 21 Luglio 2008 n. 7 Art. 10 Comma 6 prevede che gli strumenti urbanistici comunali si adeguino, se necessario e con i proprio strumenti, al Piano di Gesti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Forni campeggio"/>
          <p:cNvPicPr/>
          <p:nvPr/>
        </p:nvPicPr>
        <p:blipFill>
          <a:blip r:embed="rId1"/>
          <a:stretch/>
        </p:blipFill>
        <p:spPr>
          <a:xfrm>
            <a:off x="3708360" y="1989000"/>
            <a:ext cx="5175360" cy="4392720"/>
          </a:xfrm>
          <a:prstGeom prst="rect">
            <a:avLst/>
          </a:prstGeom>
          <a:ln w="0">
            <a:noFill/>
          </a:ln>
        </p:spPr>
      </p:pic>
      <p:grpSp>
        <p:nvGrpSpPr>
          <p:cNvPr id="267" name="Gruppo 20"/>
          <p:cNvGrpSpPr/>
          <p:nvPr/>
        </p:nvGrpSpPr>
        <p:grpSpPr>
          <a:xfrm>
            <a:off x="0" y="44280"/>
            <a:ext cx="9144000" cy="7123680"/>
            <a:chOff x="0" y="44280"/>
            <a:chExt cx="9144000" cy="7123680"/>
          </a:xfrm>
        </p:grpSpPr>
        <p:pic>
          <p:nvPicPr>
            <p:cNvPr id="268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6525360"/>
              <a:ext cx="9144000" cy="3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Immagine 25" descr="bandiera2italia.gif"/>
            <p:cNvPicPr/>
            <p:nvPr/>
          </p:nvPicPr>
          <p:blipFill>
            <a:blip r:embed="rId3"/>
            <a:stretch/>
          </p:blipFill>
          <p:spPr>
            <a:xfrm>
              <a:off x="5895720" y="116280"/>
              <a:ext cx="736560" cy="4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Immagine 27" descr="Logo_N2000.jpg"/>
            <p:cNvPicPr/>
            <p:nvPr/>
          </p:nvPicPr>
          <p:blipFill>
            <a:blip r:embed="rId4"/>
            <a:stretch/>
          </p:blipFill>
          <p:spPr>
            <a:xfrm>
              <a:off x="8172720" y="44280"/>
              <a:ext cx="7844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Immagine 29" descr="europa.tif"/>
            <p:cNvPicPr/>
            <p:nvPr/>
          </p:nvPicPr>
          <p:blipFill>
            <a:blip r:embed="rId5"/>
            <a:stretch/>
          </p:blipFill>
          <p:spPr>
            <a:xfrm>
              <a:off x="2555640" y="164160"/>
              <a:ext cx="180000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" descr=""/>
            <p:cNvPicPr/>
            <p:nvPr/>
          </p:nvPicPr>
          <p:blipFill>
            <a:blip r:embed="rId6"/>
            <a:stretch/>
          </p:blipFill>
          <p:spPr>
            <a:xfrm>
              <a:off x="611280" y="692280"/>
              <a:ext cx="853272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CasellaDiTesto 16"/>
            <p:cNvSpPr/>
            <p:nvPr/>
          </p:nvSpPr>
          <p:spPr>
            <a:xfrm>
              <a:off x="541080" y="596520"/>
              <a:ext cx="86029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ffff"/>
                  </a:solidFill>
                  <a:latin typeface="DecimaWE Rg"/>
                </a:rPr>
                <a:t>PIANO DI GESTION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199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DecimaWE Rg"/>
                </a:rPr>
                <a:t>DELLE AREE “NATURA 2000” ALPI CARNICH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CasellaDiTesto 17"/>
            <p:cNvSpPr/>
            <p:nvPr/>
          </p:nvSpPr>
          <p:spPr>
            <a:xfrm>
              <a:off x="3131640" y="6516000"/>
              <a:ext cx="59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DecimaWE Rg"/>
                </a:rPr>
                <a:t>Tolmezzo, 24 Novembre 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CasellaDiTesto 19"/>
            <p:cNvSpPr/>
            <p:nvPr/>
          </p:nvSpPr>
          <p:spPr>
            <a:xfrm>
              <a:off x="0" y="6525360"/>
              <a:ext cx="384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DecimaWE Rg"/>
                </a:rPr>
                <a:t>TAVOLO TECNICO AMMINIST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CasellaDiTesto 10"/>
          <p:cNvSpPr/>
          <p:nvPr/>
        </p:nvSpPr>
        <p:spPr>
          <a:xfrm>
            <a:off x="611280" y="14842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Aree di possibile incompatibilità tra obbiettivi del  PdG e Pianificazione urbani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CasellaDiTesto 12"/>
          <p:cNvSpPr/>
          <p:nvPr/>
        </p:nvSpPr>
        <p:spPr>
          <a:xfrm>
            <a:off x="600480" y="2482920"/>
            <a:ext cx="288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Comune di Forni Avolt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Freccia in giù 18"/>
          <p:cNvGrpSpPr/>
          <p:nvPr/>
        </p:nvGrpSpPr>
        <p:grpSpPr>
          <a:xfrm>
            <a:off x="7577280" y="1749600"/>
            <a:ext cx="688680" cy="981000"/>
            <a:chOff x="7577280" y="1749600"/>
            <a:chExt cx="688680" cy="981000"/>
          </a:xfrm>
        </p:grpSpPr>
        <p:pic>
          <p:nvPicPr>
            <p:cNvPr id="279" name="Freccia in giù 18" descr=""/>
            <p:cNvPicPr/>
            <p:nvPr/>
          </p:nvPicPr>
          <p:blipFill>
            <a:blip r:embed="rId7"/>
            <a:stretch/>
          </p:blipFill>
          <p:spPr>
            <a:xfrm>
              <a:off x="7577280" y="1749600"/>
              <a:ext cx="68868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7866000" y="1989000"/>
              <a:ext cx="10800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Rettangolo 13"/>
          <p:cNvSpPr/>
          <p:nvPr/>
        </p:nvSpPr>
        <p:spPr>
          <a:xfrm>
            <a:off x="539640" y="3538440"/>
            <a:ext cx="30956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DecimaWE Rg"/>
              </a:rPr>
              <a:t>Nelle frazioni di Collina e Collinetta esiste una sovrapposizione tra la zona consolidata (Zona “B”) e il perimetro del piano di gestione; le attività turistico ricettive di camping, albergo, ristorante e pista da sci e le aree per servizi (aree a verde, per attività sportive all’aperto e i rifugi)  sono localizzate all’interno del perimetro dell’ambito di PD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Freccia in giù 20"/>
          <p:cNvGrpSpPr/>
          <p:nvPr/>
        </p:nvGrpSpPr>
        <p:grpSpPr>
          <a:xfrm>
            <a:off x="4260960" y="2109960"/>
            <a:ext cx="695160" cy="1414440"/>
            <a:chOff x="4260960" y="2109960"/>
            <a:chExt cx="695160" cy="1414440"/>
          </a:xfrm>
        </p:grpSpPr>
        <p:pic>
          <p:nvPicPr>
            <p:cNvPr id="283" name="Freccia in giù 20" descr=""/>
            <p:cNvPicPr/>
            <p:nvPr/>
          </p:nvPicPr>
          <p:blipFill>
            <a:blip r:embed="rId8"/>
            <a:stretch/>
          </p:blipFill>
          <p:spPr>
            <a:xfrm>
              <a:off x="4260960" y="2109960"/>
              <a:ext cx="69516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4554360" y="2349360"/>
              <a:ext cx="108000" cy="8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Gruppo 20"/>
          <p:cNvGrpSpPr/>
          <p:nvPr/>
        </p:nvGrpSpPr>
        <p:grpSpPr>
          <a:xfrm>
            <a:off x="0" y="44280"/>
            <a:ext cx="9144000" cy="7123680"/>
            <a:chOff x="0" y="44280"/>
            <a:chExt cx="9144000" cy="7123680"/>
          </a:xfrm>
        </p:grpSpPr>
        <p:pic>
          <p:nvPicPr>
            <p:cNvPr id="286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6525360"/>
              <a:ext cx="9144000" cy="3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Immagine 25" descr="bandiera2italia.gif"/>
            <p:cNvPicPr/>
            <p:nvPr/>
          </p:nvPicPr>
          <p:blipFill>
            <a:blip r:embed="rId2"/>
            <a:stretch/>
          </p:blipFill>
          <p:spPr>
            <a:xfrm>
              <a:off x="5895720" y="116280"/>
              <a:ext cx="736560" cy="4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Immagine 27" descr="Logo_N2000.jpg"/>
            <p:cNvPicPr/>
            <p:nvPr/>
          </p:nvPicPr>
          <p:blipFill>
            <a:blip r:embed="rId3"/>
            <a:stretch/>
          </p:blipFill>
          <p:spPr>
            <a:xfrm>
              <a:off x="8172720" y="44280"/>
              <a:ext cx="7844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Immagine 29" descr="europa.tif"/>
            <p:cNvPicPr/>
            <p:nvPr/>
          </p:nvPicPr>
          <p:blipFill>
            <a:blip r:embed="rId4"/>
            <a:stretch/>
          </p:blipFill>
          <p:spPr>
            <a:xfrm>
              <a:off x="2555640" y="164160"/>
              <a:ext cx="180000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" descr=""/>
            <p:cNvPicPr/>
            <p:nvPr/>
          </p:nvPicPr>
          <p:blipFill>
            <a:blip r:embed="rId5"/>
            <a:stretch/>
          </p:blipFill>
          <p:spPr>
            <a:xfrm>
              <a:off x="611280" y="692280"/>
              <a:ext cx="853272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CasellaDiTesto 16"/>
            <p:cNvSpPr/>
            <p:nvPr/>
          </p:nvSpPr>
          <p:spPr>
            <a:xfrm>
              <a:off x="541080" y="596520"/>
              <a:ext cx="86029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ffff"/>
                  </a:solidFill>
                  <a:latin typeface="DecimaWE Rg"/>
                </a:rPr>
                <a:t>PIANO DI GESTION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199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DecimaWE Rg"/>
                </a:rPr>
                <a:t>DELLE AREE “NATURA 2000” ALPI CARNICH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CasellaDiTesto 17"/>
            <p:cNvSpPr/>
            <p:nvPr/>
          </p:nvSpPr>
          <p:spPr>
            <a:xfrm>
              <a:off x="3131640" y="6516000"/>
              <a:ext cx="59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DecimaWE Rg"/>
                </a:rPr>
                <a:t>Tolmezzo, 24 Novembre 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CasellaDiTesto 19"/>
            <p:cNvSpPr/>
            <p:nvPr/>
          </p:nvSpPr>
          <p:spPr>
            <a:xfrm>
              <a:off x="0" y="6525360"/>
              <a:ext cx="384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DecimaWE Rg"/>
                </a:rPr>
                <a:t>TAVOLO TECNICO AMMINIST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CasellaDiTesto 10"/>
          <p:cNvSpPr/>
          <p:nvPr/>
        </p:nvSpPr>
        <p:spPr>
          <a:xfrm>
            <a:off x="611280" y="14842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Aree di possibile incompatibilità tra obbiettivi del  PdG e Pianificazione urbani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CasellaDiTesto 12"/>
          <p:cNvSpPr/>
          <p:nvPr/>
        </p:nvSpPr>
        <p:spPr>
          <a:xfrm>
            <a:off x="544680" y="1916280"/>
            <a:ext cx="288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Comune di Forni Avolt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D:\progetti\PDG ZPS carnia\II newletter e tavoli\tavoli ppt\definitivi\campeggio_fvg.jpg"/>
          <p:cNvPicPr/>
          <p:nvPr/>
        </p:nvPicPr>
        <p:blipFill>
          <a:blip r:embed="rId6"/>
          <a:stretch/>
        </p:blipFill>
        <p:spPr>
          <a:xfrm>
            <a:off x="5292720" y="3068640"/>
            <a:ext cx="3222720" cy="2881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D:\progetti\PDG ZPS carnia\II newletter e tavoli\tavoli ppt\definitivi\campeggio_n2000.jpg"/>
          <p:cNvPicPr/>
          <p:nvPr/>
        </p:nvPicPr>
        <p:blipFill>
          <a:blip r:embed="rId7"/>
          <a:stretch/>
        </p:blipFill>
        <p:spPr>
          <a:xfrm>
            <a:off x="684360" y="3068640"/>
            <a:ext cx="3181320" cy="2843280"/>
          </a:xfrm>
          <a:prstGeom prst="rect">
            <a:avLst/>
          </a:prstGeom>
          <a:ln w="0">
            <a:noFill/>
          </a:ln>
        </p:spPr>
      </p:pic>
      <p:sp>
        <p:nvSpPr>
          <p:cNvPr id="298" name="CasellaDiTesto 19"/>
          <p:cNvSpPr/>
          <p:nvPr/>
        </p:nvSpPr>
        <p:spPr>
          <a:xfrm>
            <a:off x="798480" y="263700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Habitat N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CasellaDiTesto 21"/>
          <p:cNvSpPr/>
          <p:nvPr/>
        </p:nvSpPr>
        <p:spPr>
          <a:xfrm>
            <a:off x="5216040" y="2637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Habitat FV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uppo 20"/>
          <p:cNvGrpSpPr/>
          <p:nvPr/>
        </p:nvGrpSpPr>
        <p:grpSpPr>
          <a:xfrm>
            <a:off x="0" y="44280"/>
            <a:ext cx="9144000" cy="7123680"/>
            <a:chOff x="0" y="44280"/>
            <a:chExt cx="9144000" cy="7123680"/>
          </a:xfrm>
        </p:grpSpPr>
        <p:pic>
          <p:nvPicPr>
            <p:cNvPr id="301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6525360"/>
              <a:ext cx="9144000" cy="3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Immagine 25" descr="bandiera2italia.gif"/>
            <p:cNvPicPr/>
            <p:nvPr/>
          </p:nvPicPr>
          <p:blipFill>
            <a:blip r:embed="rId2"/>
            <a:stretch/>
          </p:blipFill>
          <p:spPr>
            <a:xfrm>
              <a:off x="5895720" y="116280"/>
              <a:ext cx="736560" cy="4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Immagine 27" descr="Logo_N2000.jpg"/>
            <p:cNvPicPr/>
            <p:nvPr/>
          </p:nvPicPr>
          <p:blipFill>
            <a:blip r:embed="rId3"/>
            <a:stretch/>
          </p:blipFill>
          <p:spPr>
            <a:xfrm>
              <a:off x="8172720" y="44280"/>
              <a:ext cx="7844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Immagine 29" descr="europa.tif"/>
            <p:cNvPicPr/>
            <p:nvPr/>
          </p:nvPicPr>
          <p:blipFill>
            <a:blip r:embed="rId4"/>
            <a:stretch/>
          </p:blipFill>
          <p:spPr>
            <a:xfrm>
              <a:off x="2555640" y="164160"/>
              <a:ext cx="180000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4" descr=""/>
            <p:cNvPicPr/>
            <p:nvPr/>
          </p:nvPicPr>
          <p:blipFill>
            <a:blip r:embed="rId5"/>
            <a:stretch/>
          </p:blipFill>
          <p:spPr>
            <a:xfrm>
              <a:off x="611280" y="692280"/>
              <a:ext cx="853272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CasellaDiTesto 16"/>
            <p:cNvSpPr/>
            <p:nvPr/>
          </p:nvSpPr>
          <p:spPr>
            <a:xfrm>
              <a:off x="541080" y="596520"/>
              <a:ext cx="86029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ffff"/>
                  </a:solidFill>
                  <a:latin typeface="DecimaWE Rg"/>
                </a:rPr>
                <a:t>PIANO DI GESTION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199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DecimaWE Rg"/>
                </a:rPr>
                <a:t>DELLE AREE “NATURA 2000” ALPI CARNICH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CasellaDiTesto 17"/>
            <p:cNvSpPr/>
            <p:nvPr/>
          </p:nvSpPr>
          <p:spPr>
            <a:xfrm>
              <a:off x="3131640" y="6516000"/>
              <a:ext cx="59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DecimaWE Rg"/>
                </a:rPr>
                <a:t>Tolmezzo, 24 Novembre 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CasellaDiTesto 19"/>
            <p:cNvSpPr/>
            <p:nvPr/>
          </p:nvSpPr>
          <p:spPr>
            <a:xfrm>
              <a:off x="0" y="6525360"/>
              <a:ext cx="384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DecimaWE Rg"/>
                </a:rPr>
                <a:t>TAVOLO TECNICO AMMINIST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CasellaDiTesto 10"/>
          <p:cNvSpPr/>
          <p:nvPr/>
        </p:nvSpPr>
        <p:spPr>
          <a:xfrm>
            <a:off x="611280" y="14842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Aree di possibile incompatibilità tra obbiettivi del  PdG e Pianificazione urbani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CasellaDiTesto 12"/>
          <p:cNvSpPr/>
          <p:nvPr/>
        </p:nvSpPr>
        <p:spPr>
          <a:xfrm>
            <a:off x="600480" y="2482920"/>
            <a:ext cx="288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Comune di Forni Avolt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ttangolo 13"/>
          <p:cNvSpPr/>
          <p:nvPr/>
        </p:nvSpPr>
        <p:spPr>
          <a:xfrm>
            <a:off x="611280" y="3473280"/>
            <a:ext cx="3097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DecimaWE Rg"/>
              </a:rPr>
              <a:t>In località Piani di Luzza esistono varie sovrapposizioni tra la zona destinata ( e già realizzatti) a servizi per il turismo e l’ambito di PDG. Si tratta di possibili espansioni in aree attualmente non interessate dai serviz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DecimaWE Rg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" descr="Forni sci 2"/>
          <p:cNvPicPr/>
          <p:nvPr/>
        </p:nvPicPr>
        <p:blipFill>
          <a:blip r:embed="rId6"/>
          <a:stretch/>
        </p:blipFill>
        <p:spPr>
          <a:xfrm>
            <a:off x="3924360" y="1989000"/>
            <a:ext cx="4962600" cy="4391280"/>
          </a:xfrm>
          <a:prstGeom prst="rect">
            <a:avLst/>
          </a:prstGeom>
          <a:ln w="0">
            <a:noFill/>
          </a:ln>
        </p:spPr>
      </p:pic>
      <p:grpSp>
        <p:nvGrpSpPr>
          <p:cNvPr id="313" name="Freccia in giù 14"/>
          <p:cNvGrpSpPr/>
          <p:nvPr/>
        </p:nvGrpSpPr>
        <p:grpSpPr>
          <a:xfrm>
            <a:off x="6132600" y="1822320"/>
            <a:ext cx="695160" cy="1268640"/>
            <a:chOff x="6132600" y="1822320"/>
            <a:chExt cx="695160" cy="1268640"/>
          </a:xfrm>
        </p:grpSpPr>
        <p:pic>
          <p:nvPicPr>
            <p:cNvPr id="314" name="Freccia in giù 14" descr=""/>
            <p:cNvPicPr/>
            <p:nvPr/>
          </p:nvPicPr>
          <p:blipFill>
            <a:blip r:embed="rId7"/>
            <a:stretch/>
          </p:blipFill>
          <p:spPr>
            <a:xfrm>
              <a:off x="6132600" y="1822320"/>
              <a:ext cx="695160" cy="12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6426360" y="2060640"/>
              <a:ext cx="10764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uppo 20"/>
          <p:cNvGrpSpPr/>
          <p:nvPr/>
        </p:nvGrpSpPr>
        <p:grpSpPr>
          <a:xfrm>
            <a:off x="0" y="44280"/>
            <a:ext cx="9144000" cy="7123680"/>
            <a:chOff x="0" y="44280"/>
            <a:chExt cx="9144000" cy="7123680"/>
          </a:xfrm>
        </p:grpSpPr>
        <p:pic>
          <p:nvPicPr>
            <p:cNvPr id="317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6525360"/>
              <a:ext cx="9144000" cy="3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Immagine 25" descr="bandiera2italia.gif"/>
            <p:cNvPicPr/>
            <p:nvPr/>
          </p:nvPicPr>
          <p:blipFill>
            <a:blip r:embed="rId2"/>
            <a:stretch/>
          </p:blipFill>
          <p:spPr>
            <a:xfrm>
              <a:off x="5895720" y="116280"/>
              <a:ext cx="736560" cy="4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Immagine 27" descr="Logo_N2000.jpg"/>
            <p:cNvPicPr/>
            <p:nvPr/>
          </p:nvPicPr>
          <p:blipFill>
            <a:blip r:embed="rId3"/>
            <a:stretch/>
          </p:blipFill>
          <p:spPr>
            <a:xfrm>
              <a:off x="8172720" y="44280"/>
              <a:ext cx="7844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Immagine 29" descr="europa.tif"/>
            <p:cNvPicPr/>
            <p:nvPr/>
          </p:nvPicPr>
          <p:blipFill>
            <a:blip r:embed="rId4"/>
            <a:stretch/>
          </p:blipFill>
          <p:spPr>
            <a:xfrm>
              <a:off x="2555640" y="164160"/>
              <a:ext cx="180000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4" descr=""/>
            <p:cNvPicPr/>
            <p:nvPr/>
          </p:nvPicPr>
          <p:blipFill>
            <a:blip r:embed="rId5"/>
            <a:stretch/>
          </p:blipFill>
          <p:spPr>
            <a:xfrm>
              <a:off x="611280" y="692280"/>
              <a:ext cx="853272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CasellaDiTesto 16"/>
            <p:cNvSpPr/>
            <p:nvPr/>
          </p:nvSpPr>
          <p:spPr>
            <a:xfrm>
              <a:off x="541080" y="596520"/>
              <a:ext cx="86029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ffff"/>
                  </a:solidFill>
                  <a:latin typeface="DecimaWE Rg"/>
                </a:rPr>
                <a:t>PIANO DI GESTION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199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DecimaWE Rg"/>
                </a:rPr>
                <a:t>DELLE AREE “NATURA 2000” ALPI CARNICH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CasellaDiTesto 17"/>
            <p:cNvSpPr/>
            <p:nvPr/>
          </p:nvSpPr>
          <p:spPr>
            <a:xfrm>
              <a:off x="3131640" y="6516000"/>
              <a:ext cx="59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DecimaWE Rg"/>
                </a:rPr>
                <a:t>Tolmezzo, 24 Novembre 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CasellaDiTesto 19"/>
            <p:cNvSpPr/>
            <p:nvPr/>
          </p:nvSpPr>
          <p:spPr>
            <a:xfrm>
              <a:off x="0" y="6525360"/>
              <a:ext cx="384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DecimaWE Rg"/>
                </a:rPr>
                <a:t>TAVOLO TECNICO AMMINIST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CasellaDiTesto 10"/>
          <p:cNvSpPr/>
          <p:nvPr/>
        </p:nvSpPr>
        <p:spPr>
          <a:xfrm>
            <a:off x="611280" y="14842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Aree di possibile incompatibilità tra obbiettivi del  PdG e Pianificazione urbani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CasellaDiTesto 12"/>
          <p:cNvSpPr/>
          <p:nvPr/>
        </p:nvSpPr>
        <p:spPr>
          <a:xfrm>
            <a:off x="600480" y="2482920"/>
            <a:ext cx="288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Comune di Forni Avolt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ttangolo 13"/>
          <p:cNvSpPr/>
          <p:nvPr/>
        </p:nvSpPr>
        <p:spPr>
          <a:xfrm>
            <a:off x="611280" y="3473280"/>
            <a:ext cx="4392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DecimaWE Rg"/>
              </a:rPr>
              <a:t>In località Pierabech esistono sovrapposizioni delle zone per servizi al turismo e delle zone “D” (sia per quanto concerne lo stabilimento di imbottigliamento che per quanto concerne l’attività estrattiva) con l’ambito del PDG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" descr="Forni Pierabech"/>
          <p:cNvPicPr/>
          <p:nvPr/>
        </p:nvPicPr>
        <p:blipFill>
          <a:blip r:embed="rId6"/>
          <a:stretch/>
        </p:blipFill>
        <p:spPr>
          <a:xfrm>
            <a:off x="5292720" y="1989000"/>
            <a:ext cx="3487680" cy="4391280"/>
          </a:xfrm>
          <a:prstGeom prst="rect">
            <a:avLst/>
          </a:prstGeom>
          <a:ln w="0">
            <a:noFill/>
          </a:ln>
        </p:spPr>
      </p:pic>
      <p:grpSp>
        <p:nvGrpSpPr>
          <p:cNvPr id="329" name="Freccia a destra 20"/>
          <p:cNvGrpSpPr/>
          <p:nvPr/>
        </p:nvGrpSpPr>
        <p:grpSpPr>
          <a:xfrm>
            <a:off x="5052960" y="2401920"/>
            <a:ext cx="1268640" cy="689040"/>
            <a:chOff x="5052960" y="2401920"/>
            <a:chExt cx="1268640" cy="689040"/>
          </a:xfrm>
        </p:grpSpPr>
        <p:pic>
          <p:nvPicPr>
            <p:cNvPr id="330" name="Freccia a destra 20" descr=""/>
            <p:cNvPicPr/>
            <p:nvPr/>
          </p:nvPicPr>
          <p:blipFill>
            <a:blip r:embed="rId7"/>
            <a:stretch/>
          </p:blipFill>
          <p:spPr>
            <a:xfrm>
              <a:off x="5052960" y="2401920"/>
              <a:ext cx="12686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5292720" y="2690640"/>
              <a:ext cx="73836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Freccia a destra 21"/>
          <p:cNvGrpSpPr/>
          <p:nvPr/>
        </p:nvGrpSpPr>
        <p:grpSpPr>
          <a:xfrm>
            <a:off x="5052960" y="4273560"/>
            <a:ext cx="1268640" cy="689040"/>
            <a:chOff x="5052960" y="4273560"/>
            <a:chExt cx="1268640" cy="689040"/>
          </a:xfrm>
        </p:grpSpPr>
        <p:pic>
          <p:nvPicPr>
            <p:cNvPr id="333" name="Freccia a destra 21" descr=""/>
            <p:cNvPicPr/>
            <p:nvPr/>
          </p:nvPicPr>
          <p:blipFill>
            <a:blip r:embed="rId8"/>
            <a:stretch/>
          </p:blipFill>
          <p:spPr>
            <a:xfrm>
              <a:off x="5052960" y="4273560"/>
              <a:ext cx="12686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5292720" y="4562640"/>
              <a:ext cx="73836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D:\progetti\PDG ZPS carnia\foto\matteo de luca\fagiano di monte4.jpg"/>
          <p:cNvPicPr/>
          <p:nvPr/>
        </p:nvPicPr>
        <p:blipFill>
          <a:blip r:embed="rId1"/>
          <a:stretch/>
        </p:blipFill>
        <p:spPr>
          <a:xfrm>
            <a:off x="2627280" y="4292640"/>
            <a:ext cx="3349800" cy="223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D:\progetti\PDG ZPS carnia\foto\per relazione\dal monte Paularo.JPG"/>
          <p:cNvPicPr/>
          <p:nvPr/>
        </p:nvPicPr>
        <p:blipFill>
          <a:blip r:embed="rId2"/>
          <a:stretch/>
        </p:blipFill>
        <p:spPr>
          <a:xfrm>
            <a:off x="5925960" y="1413000"/>
            <a:ext cx="3218040" cy="2412720"/>
          </a:xfrm>
          <a:prstGeom prst="rect">
            <a:avLst/>
          </a:prstGeom>
          <a:ln w="0">
            <a:noFill/>
          </a:ln>
        </p:spPr>
      </p:pic>
      <p:grpSp>
        <p:nvGrpSpPr>
          <p:cNvPr id="98" name="Gruppo 20"/>
          <p:cNvGrpSpPr/>
          <p:nvPr/>
        </p:nvGrpSpPr>
        <p:grpSpPr>
          <a:xfrm>
            <a:off x="0" y="44280"/>
            <a:ext cx="9144000" cy="7123680"/>
            <a:chOff x="0" y="44280"/>
            <a:chExt cx="9144000" cy="7123680"/>
          </a:xfrm>
        </p:grpSpPr>
        <p:pic>
          <p:nvPicPr>
            <p:cNvPr id="99" name="Picture 4" descr=""/>
            <p:cNvPicPr/>
            <p:nvPr/>
          </p:nvPicPr>
          <p:blipFill>
            <a:blip r:embed="rId3"/>
            <a:stretch/>
          </p:blipFill>
          <p:spPr>
            <a:xfrm>
              <a:off x="0" y="6525360"/>
              <a:ext cx="9144000" cy="3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Immagine 25" descr="bandiera2italia.gif"/>
            <p:cNvPicPr/>
            <p:nvPr/>
          </p:nvPicPr>
          <p:blipFill>
            <a:blip r:embed="rId4"/>
            <a:stretch/>
          </p:blipFill>
          <p:spPr>
            <a:xfrm>
              <a:off x="5895720" y="116280"/>
              <a:ext cx="736560" cy="4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Immagine 27" descr="Logo_N2000.jpg"/>
            <p:cNvPicPr/>
            <p:nvPr/>
          </p:nvPicPr>
          <p:blipFill>
            <a:blip r:embed="rId5"/>
            <a:stretch/>
          </p:blipFill>
          <p:spPr>
            <a:xfrm>
              <a:off x="8172720" y="44280"/>
              <a:ext cx="7844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Immagine 29" descr="europa.tif"/>
            <p:cNvPicPr/>
            <p:nvPr/>
          </p:nvPicPr>
          <p:blipFill>
            <a:blip r:embed="rId6"/>
            <a:stretch/>
          </p:blipFill>
          <p:spPr>
            <a:xfrm>
              <a:off x="2555640" y="164160"/>
              <a:ext cx="180000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4" descr=""/>
            <p:cNvPicPr/>
            <p:nvPr/>
          </p:nvPicPr>
          <p:blipFill>
            <a:blip r:embed="rId7"/>
            <a:stretch/>
          </p:blipFill>
          <p:spPr>
            <a:xfrm>
              <a:off x="611280" y="692280"/>
              <a:ext cx="853272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CasellaDiTesto 16"/>
            <p:cNvSpPr/>
            <p:nvPr/>
          </p:nvSpPr>
          <p:spPr>
            <a:xfrm>
              <a:off x="541080" y="596520"/>
              <a:ext cx="86029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ffff"/>
                  </a:solidFill>
                  <a:latin typeface="DecimaWE Rg"/>
                </a:rPr>
                <a:t>PIANO DI GESTION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199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DecimaWE Rg"/>
                </a:rPr>
                <a:t>DELLE AREE “NATURA 2000” ALPI CARNICH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CasellaDiTesto 17"/>
            <p:cNvSpPr/>
            <p:nvPr/>
          </p:nvSpPr>
          <p:spPr>
            <a:xfrm>
              <a:off x="3131640" y="6516000"/>
              <a:ext cx="59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DecimaWE Rg"/>
                </a:rPr>
                <a:t>Tolmezzo, 24 Novembre 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CasellaDiTesto 19"/>
            <p:cNvSpPr/>
            <p:nvPr/>
          </p:nvSpPr>
          <p:spPr>
            <a:xfrm>
              <a:off x="0" y="6525360"/>
              <a:ext cx="384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DecimaWE Rg"/>
                </a:rPr>
                <a:t>TAVOLO TECNICO AMMINIST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CasellaDiTesto 12"/>
          <p:cNvSpPr/>
          <p:nvPr/>
        </p:nvSpPr>
        <p:spPr>
          <a:xfrm>
            <a:off x="684360" y="1628640"/>
            <a:ext cx="5182920" cy="31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Stato della redazione del pia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DecimaWE Rg"/>
              </a:rPr>
              <a:t>Completate fasi conoscitive e valutati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DecimaWE Rg"/>
              </a:rPr>
              <a:t>Circa 6 mesi per lo sviluppo della fase esecutiva con scrittura delle azioni del Piano e contemporanea contestualizzazone delle Misure di Conservazio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DecimaWE Rg"/>
              </a:rPr>
              <a:t>Seconda convocazione dei tavoli tematici sui risultati delle due fas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DecimaWE Rg"/>
              </a:rPr>
              <a:t>Fine prevista estate 20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D:\progetti\PDG ZPS carnia\foto\per relazione\DSCN8311.JPG"/>
          <p:cNvPicPr/>
          <p:nvPr/>
        </p:nvPicPr>
        <p:blipFill>
          <a:blip r:embed="rId8"/>
          <a:stretch/>
        </p:blipFill>
        <p:spPr>
          <a:xfrm>
            <a:off x="5904000" y="3860640"/>
            <a:ext cx="3240000" cy="24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uppo 20"/>
          <p:cNvGrpSpPr/>
          <p:nvPr/>
        </p:nvGrpSpPr>
        <p:grpSpPr>
          <a:xfrm>
            <a:off x="0" y="44280"/>
            <a:ext cx="9144000" cy="7123680"/>
            <a:chOff x="0" y="44280"/>
            <a:chExt cx="9144000" cy="7123680"/>
          </a:xfrm>
        </p:grpSpPr>
        <p:pic>
          <p:nvPicPr>
            <p:cNvPr id="336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6525360"/>
              <a:ext cx="9144000" cy="3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Immagine 25" descr="bandiera2italia.gif"/>
            <p:cNvPicPr/>
            <p:nvPr/>
          </p:nvPicPr>
          <p:blipFill>
            <a:blip r:embed="rId2"/>
            <a:stretch/>
          </p:blipFill>
          <p:spPr>
            <a:xfrm>
              <a:off x="5895720" y="116280"/>
              <a:ext cx="736560" cy="4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Immagine 27" descr="Logo_N2000.jpg"/>
            <p:cNvPicPr/>
            <p:nvPr/>
          </p:nvPicPr>
          <p:blipFill>
            <a:blip r:embed="rId3"/>
            <a:stretch/>
          </p:blipFill>
          <p:spPr>
            <a:xfrm>
              <a:off x="8172720" y="44280"/>
              <a:ext cx="7844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Immagine 29" descr="europa.tif"/>
            <p:cNvPicPr/>
            <p:nvPr/>
          </p:nvPicPr>
          <p:blipFill>
            <a:blip r:embed="rId4"/>
            <a:stretch/>
          </p:blipFill>
          <p:spPr>
            <a:xfrm>
              <a:off x="2555640" y="164160"/>
              <a:ext cx="180000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4" descr=""/>
            <p:cNvPicPr/>
            <p:nvPr/>
          </p:nvPicPr>
          <p:blipFill>
            <a:blip r:embed="rId5"/>
            <a:stretch/>
          </p:blipFill>
          <p:spPr>
            <a:xfrm>
              <a:off x="611280" y="692280"/>
              <a:ext cx="853272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CasellaDiTesto 16"/>
            <p:cNvSpPr/>
            <p:nvPr/>
          </p:nvSpPr>
          <p:spPr>
            <a:xfrm>
              <a:off x="541080" y="596520"/>
              <a:ext cx="86029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ffff"/>
                  </a:solidFill>
                  <a:latin typeface="DecimaWE Rg"/>
                </a:rPr>
                <a:t>PIANO DI GESTION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199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DecimaWE Rg"/>
                </a:rPr>
                <a:t>DELLE AREE “NATURA 2000” ALPI CARNICH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CasellaDiTesto 17"/>
            <p:cNvSpPr/>
            <p:nvPr/>
          </p:nvSpPr>
          <p:spPr>
            <a:xfrm>
              <a:off x="3131640" y="6516000"/>
              <a:ext cx="59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DecimaWE Rg"/>
                </a:rPr>
                <a:t>Tolmezzo, 24 Novembre 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CasellaDiTesto 19"/>
            <p:cNvSpPr/>
            <p:nvPr/>
          </p:nvSpPr>
          <p:spPr>
            <a:xfrm>
              <a:off x="0" y="6525360"/>
              <a:ext cx="384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DecimaWE Rg"/>
                </a:rPr>
                <a:t>TAVOLO TECNICO AMMINIST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CasellaDiTesto 10"/>
          <p:cNvSpPr/>
          <p:nvPr/>
        </p:nvSpPr>
        <p:spPr>
          <a:xfrm>
            <a:off x="611280" y="14842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Aree di possibile incompatibilità tra obbiettivi del  PdG e Pianificazione urbani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CasellaDiTesto 11"/>
          <p:cNvSpPr/>
          <p:nvPr/>
        </p:nvSpPr>
        <p:spPr>
          <a:xfrm>
            <a:off x="656640" y="2276640"/>
            <a:ext cx="23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Comune di Paluz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" descr="Paluzza PassoMonteCroce"/>
          <p:cNvPicPr/>
          <p:nvPr/>
        </p:nvPicPr>
        <p:blipFill>
          <a:blip r:embed="rId6"/>
          <a:stretch/>
        </p:blipFill>
        <p:spPr>
          <a:xfrm>
            <a:off x="3419640" y="1989000"/>
            <a:ext cx="5473440" cy="4389480"/>
          </a:xfrm>
          <a:prstGeom prst="rect">
            <a:avLst/>
          </a:prstGeom>
          <a:ln w="0">
            <a:noFill/>
          </a:ln>
        </p:spPr>
      </p:pic>
      <p:sp>
        <p:nvSpPr>
          <p:cNvPr id="347" name="Rettangolo 13"/>
          <p:cNvSpPr/>
          <p:nvPr/>
        </p:nvSpPr>
        <p:spPr>
          <a:xfrm>
            <a:off x="539640" y="3429000"/>
            <a:ext cx="2808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DecimaWE Rg"/>
              </a:rPr>
              <a:t>Si sovrappongono all’ambito due aree destinate alla pratica sciistica che vengono usate in periodo estivo come pascoli per le malgh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Freccia in giù 14"/>
          <p:cNvGrpSpPr/>
          <p:nvPr/>
        </p:nvGrpSpPr>
        <p:grpSpPr>
          <a:xfrm>
            <a:off x="4979880" y="3121200"/>
            <a:ext cx="695520" cy="1195200"/>
            <a:chOff x="4979880" y="3121200"/>
            <a:chExt cx="695520" cy="1195200"/>
          </a:xfrm>
        </p:grpSpPr>
        <p:pic>
          <p:nvPicPr>
            <p:cNvPr id="349" name="Freccia in giù 14" descr=""/>
            <p:cNvPicPr/>
            <p:nvPr/>
          </p:nvPicPr>
          <p:blipFill>
            <a:blip r:embed="rId7"/>
            <a:stretch/>
          </p:blipFill>
          <p:spPr>
            <a:xfrm>
              <a:off x="4979880" y="3121200"/>
              <a:ext cx="69552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5273640" y="3357720"/>
              <a:ext cx="10800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Freccia in giù 18"/>
          <p:cNvGrpSpPr/>
          <p:nvPr/>
        </p:nvGrpSpPr>
        <p:grpSpPr>
          <a:xfrm>
            <a:off x="3687840" y="1895400"/>
            <a:ext cx="689040" cy="1195560"/>
            <a:chOff x="3687840" y="1895400"/>
            <a:chExt cx="689040" cy="1195560"/>
          </a:xfrm>
        </p:grpSpPr>
        <p:pic>
          <p:nvPicPr>
            <p:cNvPr id="352" name="Freccia in giù 18" descr=""/>
            <p:cNvPicPr/>
            <p:nvPr/>
          </p:nvPicPr>
          <p:blipFill>
            <a:blip r:embed="rId8"/>
            <a:stretch/>
          </p:blipFill>
          <p:spPr>
            <a:xfrm>
              <a:off x="3687840" y="1895400"/>
              <a:ext cx="68904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3978360" y="2133720"/>
              <a:ext cx="10800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uppo 20"/>
          <p:cNvGrpSpPr/>
          <p:nvPr/>
        </p:nvGrpSpPr>
        <p:grpSpPr>
          <a:xfrm>
            <a:off x="0" y="44280"/>
            <a:ext cx="9144000" cy="7123680"/>
            <a:chOff x="0" y="44280"/>
            <a:chExt cx="9144000" cy="7123680"/>
          </a:xfrm>
        </p:grpSpPr>
        <p:pic>
          <p:nvPicPr>
            <p:cNvPr id="355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6525360"/>
              <a:ext cx="9144000" cy="3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Immagine 25" descr="bandiera2italia.gif"/>
            <p:cNvPicPr/>
            <p:nvPr/>
          </p:nvPicPr>
          <p:blipFill>
            <a:blip r:embed="rId2"/>
            <a:stretch/>
          </p:blipFill>
          <p:spPr>
            <a:xfrm>
              <a:off x="5895720" y="116280"/>
              <a:ext cx="736560" cy="4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Immagine 27" descr="Logo_N2000.jpg"/>
            <p:cNvPicPr/>
            <p:nvPr/>
          </p:nvPicPr>
          <p:blipFill>
            <a:blip r:embed="rId3"/>
            <a:stretch/>
          </p:blipFill>
          <p:spPr>
            <a:xfrm>
              <a:off x="8172720" y="44280"/>
              <a:ext cx="7844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Immagine 29" descr="europa.tif"/>
            <p:cNvPicPr/>
            <p:nvPr/>
          </p:nvPicPr>
          <p:blipFill>
            <a:blip r:embed="rId4"/>
            <a:stretch/>
          </p:blipFill>
          <p:spPr>
            <a:xfrm>
              <a:off x="2555640" y="164160"/>
              <a:ext cx="180000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4" descr=""/>
            <p:cNvPicPr/>
            <p:nvPr/>
          </p:nvPicPr>
          <p:blipFill>
            <a:blip r:embed="rId5"/>
            <a:stretch/>
          </p:blipFill>
          <p:spPr>
            <a:xfrm>
              <a:off x="611280" y="692280"/>
              <a:ext cx="853272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CasellaDiTesto 16"/>
            <p:cNvSpPr/>
            <p:nvPr/>
          </p:nvSpPr>
          <p:spPr>
            <a:xfrm>
              <a:off x="541080" y="596520"/>
              <a:ext cx="86029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ffff"/>
                  </a:solidFill>
                  <a:latin typeface="DecimaWE Rg"/>
                </a:rPr>
                <a:t>PIANO DI GESTION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199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DecimaWE Rg"/>
                </a:rPr>
                <a:t>DELLE AREE “NATURA 2000” ALPI CARNICH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CasellaDiTesto 17"/>
            <p:cNvSpPr/>
            <p:nvPr/>
          </p:nvSpPr>
          <p:spPr>
            <a:xfrm>
              <a:off x="3131640" y="6516000"/>
              <a:ext cx="59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DecimaWE Rg"/>
                </a:rPr>
                <a:t>Tolmezzo, 24 Novembre 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CasellaDiTesto 19"/>
            <p:cNvSpPr/>
            <p:nvPr/>
          </p:nvSpPr>
          <p:spPr>
            <a:xfrm>
              <a:off x="0" y="6525360"/>
              <a:ext cx="384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DecimaWE Rg"/>
                </a:rPr>
                <a:t>TAVOLO TECNICO AMMINIST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CasellaDiTesto 10"/>
          <p:cNvSpPr/>
          <p:nvPr/>
        </p:nvSpPr>
        <p:spPr>
          <a:xfrm>
            <a:off x="611280" y="14842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Aree di possibile incompatibilità tra obbiettivi del  PdG e Pianificazione urbani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paularo nord"/>
          <p:cNvPicPr/>
          <p:nvPr/>
        </p:nvPicPr>
        <p:blipFill>
          <a:blip r:embed="rId6"/>
          <a:stretch/>
        </p:blipFill>
        <p:spPr>
          <a:xfrm>
            <a:off x="3492360" y="1974960"/>
            <a:ext cx="5399280" cy="4478400"/>
          </a:xfrm>
          <a:prstGeom prst="rect">
            <a:avLst/>
          </a:prstGeom>
          <a:ln w="0">
            <a:noFill/>
          </a:ln>
        </p:spPr>
      </p:pic>
      <p:sp>
        <p:nvSpPr>
          <p:cNvPr id="365" name="CasellaDiTesto 12"/>
          <p:cNvSpPr/>
          <p:nvPr/>
        </p:nvSpPr>
        <p:spPr>
          <a:xfrm>
            <a:off x="655920" y="2276640"/>
            <a:ext cx="23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Comune di Paula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ttangolo 13"/>
          <p:cNvSpPr/>
          <p:nvPr/>
        </p:nvSpPr>
        <p:spPr>
          <a:xfrm>
            <a:off x="539640" y="3341520"/>
            <a:ext cx="2880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DecimaWE Rg"/>
              </a:rPr>
              <a:t>Va rilevata una sovrapposizione tra l’ambito di PDG e due aree adibite ad attrezzature ricettive a nord della frazione di Ravinis di cui all’ART. 56 (ZONA TURISTICA "G2b.1- G2b.2" IN LOCALITA' SICEE E BATAIA. ) del PRG vig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Freccia in giù 14"/>
          <p:cNvGrpSpPr/>
          <p:nvPr/>
        </p:nvGrpSpPr>
        <p:grpSpPr>
          <a:xfrm>
            <a:off x="5992920" y="1749600"/>
            <a:ext cx="689040" cy="907920"/>
            <a:chOff x="5992920" y="1749600"/>
            <a:chExt cx="689040" cy="907920"/>
          </a:xfrm>
        </p:grpSpPr>
        <p:pic>
          <p:nvPicPr>
            <p:cNvPr id="368" name="Freccia in giù 14" descr=""/>
            <p:cNvPicPr/>
            <p:nvPr/>
          </p:nvPicPr>
          <p:blipFill>
            <a:blip r:embed="rId7"/>
            <a:stretch/>
          </p:blipFill>
          <p:spPr>
            <a:xfrm>
              <a:off x="5992920" y="1749600"/>
              <a:ext cx="6890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6281640" y="1989000"/>
              <a:ext cx="1080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Freccia in giù 20"/>
          <p:cNvGrpSpPr/>
          <p:nvPr/>
        </p:nvGrpSpPr>
        <p:grpSpPr>
          <a:xfrm>
            <a:off x="6851520" y="1749600"/>
            <a:ext cx="695520" cy="907920"/>
            <a:chOff x="6851520" y="1749600"/>
            <a:chExt cx="695520" cy="907920"/>
          </a:xfrm>
        </p:grpSpPr>
        <p:pic>
          <p:nvPicPr>
            <p:cNvPr id="371" name="Freccia in giù 20" descr=""/>
            <p:cNvPicPr/>
            <p:nvPr/>
          </p:nvPicPr>
          <p:blipFill>
            <a:blip r:embed="rId8"/>
            <a:stretch/>
          </p:blipFill>
          <p:spPr>
            <a:xfrm>
              <a:off x="6851520" y="1749600"/>
              <a:ext cx="69552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7147080" y="1989000"/>
              <a:ext cx="1076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uppo 20"/>
          <p:cNvGrpSpPr/>
          <p:nvPr/>
        </p:nvGrpSpPr>
        <p:grpSpPr>
          <a:xfrm>
            <a:off x="0" y="44280"/>
            <a:ext cx="9144000" cy="7123680"/>
            <a:chOff x="0" y="44280"/>
            <a:chExt cx="9144000" cy="7123680"/>
          </a:xfrm>
        </p:grpSpPr>
        <p:pic>
          <p:nvPicPr>
            <p:cNvPr id="110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6525360"/>
              <a:ext cx="9144000" cy="3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Immagine 25" descr="bandiera2italia.gif"/>
            <p:cNvPicPr/>
            <p:nvPr/>
          </p:nvPicPr>
          <p:blipFill>
            <a:blip r:embed="rId2"/>
            <a:stretch/>
          </p:blipFill>
          <p:spPr>
            <a:xfrm>
              <a:off x="5895720" y="116280"/>
              <a:ext cx="736560" cy="4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Immagine 27" descr="Logo_N2000.jpg"/>
            <p:cNvPicPr/>
            <p:nvPr/>
          </p:nvPicPr>
          <p:blipFill>
            <a:blip r:embed="rId3"/>
            <a:stretch/>
          </p:blipFill>
          <p:spPr>
            <a:xfrm>
              <a:off x="8172720" y="44280"/>
              <a:ext cx="7844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Immagine 29" descr="europa.tif"/>
            <p:cNvPicPr/>
            <p:nvPr/>
          </p:nvPicPr>
          <p:blipFill>
            <a:blip r:embed="rId4"/>
            <a:stretch/>
          </p:blipFill>
          <p:spPr>
            <a:xfrm>
              <a:off x="2555640" y="164160"/>
              <a:ext cx="180000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4" descr=""/>
            <p:cNvPicPr/>
            <p:nvPr/>
          </p:nvPicPr>
          <p:blipFill>
            <a:blip r:embed="rId5"/>
            <a:stretch/>
          </p:blipFill>
          <p:spPr>
            <a:xfrm>
              <a:off x="611280" y="692280"/>
              <a:ext cx="853272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CasellaDiTesto 16"/>
            <p:cNvSpPr/>
            <p:nvPr/>
          </p:nvSpPr>
          <p:spPr>
            <a:xfrm>
              <a:off x="541080" y="596520"/>
              <a:ext cx="86029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ffff"/>
                  </a:solidFill>
                  <a:latin typeface="DecimaWE Rg"/>
                </a:rPr>
                <a:t>PIANO DI GESTION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199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DecimaWE Rg"/>
                </a:rPr>
                <a:t>DELLE AREE “NATURA 2000” ALPI CARNICH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CasellaDiTesto 17"/>
            <p:cNvSpPr/>
            <p:nvPr/>
          </p:nvSpPr>
          <p:spPr>
            <a:xfrm>
              <a:off x="3131640" y="6516000"/>
              <a:ext cx="59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DecimaWE Rg"/>
                </a:rPr>
                <a:t>Tolmezzo, 24 Novembre 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CasellaDiTesto 19"/>
            <p:cNvSpPr/>
            <p:nvPr/>
          </p:nvSpPr>
          <p:spPr>
            <a:xfrm>
              <a:off x="0" y="6525360"/>
              <a:ext cx="384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DecimaWE Rg"/>
                </a:rPr>
                <a:t>TAVOLO TECNICO AMMINIST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CasellaDiTesto 13"/>
          <p:cNvSpPr/>
          <p:nvPr/>
        </p:nvSpPr>
        <p:spPr>
          <a:xfrm>
            <a:off x="611280" y="1628640"/>
            <a:ext cx="799308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Principali materiali prodot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Le analisi generali sono state realizzate su tutta l’area, le valutazioni, analisi delle pressioni e definizione degli obbiettivi del piano sono realizzate per ogni singolo sito N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Sono stati prodotti i seguenti dati, fondamentali anche per le prossime valutazioni di incidenza (abbassamento dei costi e maggior certezza dei risultati delle valutazioni stes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DecimaWE Rg"/>
              </a:rPr>
              <a:t>Carte degli habitat FVG e N2000 alla scala 1: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DecimaWE Rg"/>
              </a:rPr>
              <a:t>Carta dei tipi forest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DecimaWE Rg"/>
              </a:rPr>
              <a:t>Carte di distribuzione delle specie di maggior rileva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DecimaWE Rg"/>
              </a:rPr>
              <a:t>Carta delle pressioni e delle loro interferen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DecimaWE Rg"/>
              </a:rPr>
              <a:t>Analisi di dettaglio degli alpegg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DecimaWE Rg"/>
              </a:rPr>
              <a:t>Analisi di dettaglio dei laghi e delle aree um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DecimaWE Rg"/>
              </a:rPr>
              <a:t>Valutazione dello stato di conservazione delle specie e degli habit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DecimaWE Rg"/>
              </a:rPr>
              <a:t>Relazioni fra specie ed habitat e pressioni  preseti o potenzi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DecimaWE Rg"/>
              </a:rPr>
              <a:t>Definizione degli obbiettivi dei pia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uppo 20"/>
          <p:cNvGrpSpPr/>
          <p:nvPr/>
        </p:nvGrpSpPr>
        <p:grpSpPr>
          <a:xfrm>
            <a:off x="0" y="44280"/>
            <a:ext cx="9144000" cy="7123680"/>
            <a:chOff x="0" y="44280"/>
            <a:chExt cx="9144000" cy="7123680"/>
          </a:xfrm>
        </p:grpSpPr>
        <p:pic>
          <p:nvPicPr>
            <p:cNvPr id="120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6525360"/>
              <a:ext cx="9144000" cy="3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Immagine 25" descr="bandiera2italia.gif"/>
            <p:cNvPicPr/>
            <p:nvPr/>
          </p:nvPicPr>
          <p:blipFill>
            <a:blip r:embed="rId2"/>
            <a:stretch/>
          </p:blipFill>
          <p:spPr>
            <a:xfrm>
              <a:off x="5895720" y="116280"/>
              <a:ext cx="736560" cy="4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Immagine 27" descr="Logo_N2000.jpg"/>
            <p:cNvPicPr/>
            <p:nvPr/>
          </p:nvPicPr>
          <p:blipFill>
            <a:blip r:embed="rId3"/>
            <a:stretch/>
          </p:blipFill>
          <p:spPr>
            <a:xfrm>
              <a:off x="8172720" y="44280"/>
              <a:ext cx="7844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Immagine 29" descr="europa.tif"/>
            <p:cNvPicPr/>
            <p:nvPr/>
          </p:nvPicPr>
          <p:blipFill>
            <a:blip r:embed="rId4"/>
            <a:stretch/>
          </p:blipFill>
          <p:spPr>
            <a:xfrm>
              <a:off x="2555640" y="164160"/>
              <a:ext cx="180000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4" descr=""/>
            <p:cNvPicPr/>
            <p:nvPr/>
          </p:nvPicPr>
          <p:blipFill>
            <a:blip r:embed="rId5"/>
            <a:stretch/>
          </p:blipFill>
          <p:spPr>
            <a:xfrm>
              <a:off x="611280" y="692280"/>
              <a:ext cx="853272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CasellaDiTesto 16"/>
            <p:cNvSpPr/>
            <p:nvPr/>
          </p:nvSpPr>
          <p:spPr>
            <a:xfrm>
              <a:off x="541080" y="596520"/>
              <a:ext cx="86029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ffff"/>
                  </a:solidFill>
                  <a:latin typeface="DecimaWE Rg"/>
                </a:rPr>
                <a:t>PIANO DI GESTION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199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DecimaWE Rg"/>
                </a:rPr>
                <a:t>DELLE AREE “NATURA 2000” ALPI CARNICH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CasellaDiTesto 17"/>
            <p:cNvSpPr/>
            <p:nvPr/>
          </p:nvSpPr>
          <p:spPr>
            <a:xfrm>
              <a:off x="3131640" y="6516000"/>
              <a:ext cx="59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DecimaWE Rg"/>
                </a:rPr>
                <a:t>Tolmezzo, 24 Novembre 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CasellaDiTesto 19"/>
            <p:cNvSpPr/>
            <p:nvPr/>
          </p:nvSpPr>
          <p:spPr>
            <a:xfrm>
              <a:off x="0" y="6525360"/>
              <a:ext cx="384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DecimaWE Rg"/>
                </a:rPr>
                <a:t>TAVOLO TECNICO AMMINIST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Picture 5" descr=""/>
          <p:cNvPicPr/>
          <p:nvPr/>
        </p:nvPicPr>
        <p:blipFill>
          <a:blip r:embed="rId6"/>
          <a:stretch/>
        </p:blipFill>
        <p:spPr>
          <a:xfrm>
            <a:off x="633240" y="1471680"/>
            <a:ext cx="4083120" cy="2462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7"/>
          <a:stretch/>
        </p:blipFill>
        <p:spPr>
          <a:xfrm>
            <a:off x="611280" y="3716280"/>
            <a:ext cx="2381040" cy="2808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8"/>
          <a:stretch/>
        </p:blipFill>
        <p:spPr>
          <a:xfrm>
            <a:off x="2979720" y="3789360"/>
            <a:ext cx="2455920" cy="2735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9"/>
          <a:stretch/>
        </p:blipFill>
        <p:spPr>
          <a:xfrm>
            <a:off x="5076720" y="1492200"/>
            <a:ext cx="4032360" cy="2441520"/>
          </a:xfrm>
          <a:prstGeom prst="rect">
            <a:avLst/>
          </a:prstGeom>
          <a:ln w="0">
            <a:noFill/>
          </a:ln>
        </p:spPr>
      </p:pic>
      <p:sp>
        <p:nvSpPr>
          <p:cNvPr id="132" name="CasellaDiTesto 23"/>
          <p:cNvSpPr/>
          <p:nvPr/>
        </p:nvSpPr>
        <p:spPr>
          <a:xfrm>
            <a:off x="3573720" y="1484280"/>
            <a:ext cx="1172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DecimaWE Rg"/>
              </a:rPr>
              <a:t>Habitat FV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sellaDiTesto 24"/>
          <p:cNvSpPr/>
          <p:nvPr/>
        </p:nvSpPr>
        <p:spPr>
          <a:xfrm>
            <a:off x="7802640" y="1484280"/>
            <a:ext cx="1387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DecimaWE Rg"/>
              </a:rPr>
              <a:t>Habitat N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"/>
          <p:cNvPicPr/>
          <p:nvPr/>
        </p:nvPicPr>
        <p:blipFill>
          <a:blip r:embed="rId10"/>
          <a:stretch/>
        </p:blipFill>
        <p:spPr>
          <a:xfrm>
            <a:off x="6948360" y="3933720"/>
            <a:ext cx="21384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4859280" y="1460520"/>
            <a:ext cx="4284720" cy="2184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4173480" cy="2068560"/>
          </a:xfrm>
          <a:prstGeom prst="rect">
            <a:avLst/>
          </a:prstGeom>
          <a:ln w="0">
            <a:noFill/>
          </a:ln>
        </p:spPr>
      </p:pic>
      <p:grpSp>
        <p:nvGrpSpPr>
          <p:cNvPr id="137" name="Gruppo 20"/>
          <p:cNvGrpSpPr/>
          <p:nvPr/>
        </p:nvGrpSpPr>
        <p:grpSpPr>
          <a:xfrm>
            <a:off x="0" y="44280"/>
            <a:ext cx="9144000" cy="7123680"/>
            <a:chOff x="0" y="44280"/>
            <a:chExt cx="9144000" cy="7123680"/>
          </a:xfrm>
        </p:grpSpPr>
        <p:pic>
          <p:nvPicPr>
            <p:cNvPr id="138" name="Picture 4" descr=""/>
            <p:cNvPicPr/>
            <p:nvPr/>
          </p:nvPicPr>
          <p:blipFill>
            <a:blip r:embed="rId3"/>
            <a:stretch/>
          </p:blipFill>
          <p:spPr>
            <a:xfrm>
              <a:off x="0" y="6525360"/>
              <a:ext cx="9144000" cy="3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Immagine 25" descr="bandiera2italia.gif"/>
            <p:cNvPicPr/>
            <p:nvPr/>
          </p:nvPicPr>
          <p:blipFill>
            <a:blip r:embed="rId4"/>
            <a:stretch/>
          </p:blipFill>
          <p:spPr>
            <a:xfrm>
              <a:off x="5895720" y="116280"/>
              <a:ext cx="736560" cy="4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Immagine 27" descr="Logo_N2000.jpg"/>
            <p:cNvPicPr/>
            <p:nvPr/>
          </p:nvPicPr>
          <p:blipFill>
            <a:blip r:embed="rId5"/>
            <a:stretch/>
          </p:blipFill>
          <p:spPr>
            <a:xfrm>
              <a:off x="8172720" y="44280"/>
              <a:ext cx="7844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Immagine 29" descr="europa.tif"/>
            <p:cNvPicPr/>
            <p:nvPr/>
          </p:nvPicPr>
          <p:blipFill>
            <a:blip r:embed="rId6"/>
            <a:stretch/>
          </p:blipFill>
          <p:spPr>
            <a:xfrm>
              <a:off x="2555640" y="164160"/>
              <a:ext cx="180000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4" descr=""/>
            <p:cNvPicPr/>
            <p:nvPr/>
          </p:nvPicPr>
          <p:blipFill>
            <a:blip r:embed="rId7"/>
            <a:stretch/>
          </p:blipFill>
          <p:spPr>
            <a:xfrm>
              <a:off x="611280" y="692280"/>
              <a:ext cx="853272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CasellaDiTesto 16"/>
            <p:cNvSpPr/>
            <p:nvPr/>
          </p:nvSpPr>
          <p:spPr>
            <a:xfrm>
              <a:off x="541080" y="596520"/>
              <a:ext cx="86029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ffff"/>
                  </a:solidFill>
                  <a:latin typeface="DecimaWE Rg"/>
                </a:rPr>
                <a:t>PIANO DI GESTION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199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DecimaWE Rg"/>
                </a:rPr>
                <a:t>DELLE AREE “NATURA 2000” ALPI CARNICH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CasellaDiTesto 17"/>
            <p:cNvSpPr/>
            <p:nvPr/>
          </p:nvSpPr>
          <p:spPr>
            <a:xfrm>
              <a:off x="3131640" y="6516000"/>
              <a:ext cx="59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DecimaWE Rg"/>
                </a:rPr>
                <a:t>Tolmezzo, 24 Novembre 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CasellaDiTesto 19"/>
            <p:cNvSpPr/>
            <p:nvPr/>
          </p:nvSpPr>
          <p:spPr>
            <a:xfrm>
              <a:off x="0" y="6525360"/>
              <a:ext cx="384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DecimaWE Rg"/>
                </a:rPr>
                <a:t>TAVOLO TECNICO AMMINIST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Picture 6" descr=""/>
          <p:cNvPicPr/>
          <p:nvPr/>
        </p:nvPicPr>
        <p:blipFill>
          <a:blip r:embed="rId8"/>
          <a:stretch/>
        </p:blipFill>
        <p:spPr>
          <a:xfrm>
            <a:off x="611280" y="3716280"/>
            <a:ext cx="2381040" cy="2808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9"/>
          <a:stretch/>
        </p:blipFill>
        <p:spPr>
          <a:xfrm>
            <a:off x="2979720" y="3789360"/>
            <a:ext cx="2455920" cy="2735280"/>
          </a:xfrm>
          <a:prstGeom prst="rect">
            <a:avLst/>
          </a:prstGeom>
          <a:ln w="0">
            <a:noFill/>
          </a:ln>
        </p:spPr>
      </p:pic>
      <p:sp>
        <p:nvSpPr>
          <p:cNvPr id="148" name="CasellaDiTesto 23"/>
          <p:cNvSpPr/>
          <p:nvPr/>
        </p:nvSpPr>
        <p:spPr>
          <a:xfrm>
            <a:off x="549720" y="1484280"/>
            <a:ext cx="1172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DecimaWE Rg"/>
              </a:rPr>
              <a:t>Habitat FV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asellaDiTesto 24"/>
          <p:cNvSpPr/>
          <p:nvPr/>
        </p:nvSpPr>
        <p:spPr>
          <a:xfrm>
            <a:off x="4859280" y="1465200"/>
            <a:ext cx="1224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DecimaWE Rg"/>
              </a:rPr>
              <a:t>Habitat N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10"/>
          <a:stretch/>
        </p:blipFill>
        <p:spPr>
          <a:xfrm>
            <a:off x="6948360" y="3933720"/>
            <a:ext cx="21384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uppo 20"/>
          <p:cNvGrpSpPr/>
          <p:nvPr/>
        </p:nvGrpSpPr>
        <p:grpSpPr>
          <a:xfrm>
            <a:off x="0" y="44280"/>
            <a:ext cx="9144000" cy="7123680"/>
            <a:chOff x="0" y="44280"/>
            <a:chExt cx="9144000" cy="7123680"/>
          </a:xfrm>
        </p:grpSpPr>
        <p:pic>
          <p:nvPicPr>
            <p:cNvPr id="152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6525360"/>
              <a:ext cx="9144000" cy="3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Immagine 25" descr="bandiera2italia.gif"/>
            <p:cNvPicPr/>
            <p:nvPr/>
          </p:nvPicPr>
          <p:blipFill>
            <a:blip r:embed="rId2"/>
            <a:stretch/>
          </p:blipFill>
          <p:spPr>
            <a:xfrm>
              <a:off x="5895720" y="116280"/>
              <a:ext cx="736560" cy="4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Immagine 27" descr="Logo_N2000.jpg"/>
            <p:cNvPicPr/>
            <p:nvPr/>
          </p:nvPicPr>
          <p:blipFill>
            <a:blip r:embed="rId3"/>
            <a:stretch/>
          </p:blipFill>
          <p:spPr>
            <a:xfrm>
              <a:off x="8172720" y="44280"/>
              <a:ext cx="7844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Immagine 29" descr="europa.tif"/>
            <p:cNvPicPr/>
            <p:nvPr/>
          </p:nvPicPr>
          <p:blipFill>
            <a:blip r:embed="rId4"/>
            <a:stretch/>
          </p:blipFill>
          <p:spPr>
            <a:xfrm>
              <a:off x="2555640" y="164160"/>
              <a:ext cx="180000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4" descr=""/>
            <p:cNvPicPr/>
            <p:nvPr/>
          </p:nvPicPr>
          <p:blipFill>
            <a:blip r:embed="rId5"/>
            <a:stretch/>
          </p:blipFill>
          <p:spPr>
            <a:xfrm>
              <a:off x="611280" y="692280"/>
              <a:ext cx="853272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CasellaDiTesto 16"/>
            <p:cNvSpPr/>
            <p:nvPr/>
          </p:nvSpPr>
          <p:spPr>
            <a:xfrm>
              <a:off x="541080" y="596520"/>
              <a:ext cx="86029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ffff"/>
                  </a:solidFill>
                  <a:latin typeface="DecimaWE Rg"/>
                </a:rPr>
                <a:t>PIANO DI GESTION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199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DecimaWE Rg"/>
                </a:rPr>
                <a:t>DELLE AREE “NATURA 2000” ALPI CARNICH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CasellaDiTesto 17"/>
            <p:cNvSpPr/>
            <p:nvPr/>
          </p:nvSpPr>
          <p:spPr>
            <a:xfrm>
              <a:off x="3131640" y="6516000"/>
              <a:ext cx="59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DecimaWE Rg"/>
                </a:rPr>
                <a:t>Tolmezzo, 24 Novembre 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CasellaDiTesto 19"/>
            <p:cNvSpPr/>
            <p:nvPr/>
          </p:nvSpPr>
          <p:spPr>
            <a:xfrm>
              <a:off x="0" y="6525360"/>
              <a:ext cx="384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DecimaWE Rg"/>
                </a:rPr>
                <a:t>TAVOLO TECNICO AMMINIST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CasellaDiTesto 13"/>
          <p:cNvSpPr/>
          <p:nvPr/>
        </p:nvSpPr>
        <p:spPr>
          <a:xfrm>
            <a:off x="611280" y="1484280"/>
            <a:ext cx="79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DecimaWE Rg"/>
              </a:rPr>
              <a:t>Per gli habitat e le specie di interesse comunitario sono state effettuate le valutazioni sul loro stato di conservazione e la relazioni con le possibili fonte di press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asellaDiTesto 14"/>
          <p:cNvSpPr/>
          <p:nvPr/>
        </p:nvSpPr>
        <p:spPr>
          <a:xfrm>
            <a:off x="2037240" y="2195640"/>
            <a:ext cx="51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Tabella della diffusione degli habitat N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6"/>
          <a:stretch/>
        </p:blipFill>
        <p:spPr>
          <a:xfrm>
            <a:off x="2484360" y="2568600"/>
            <a:ext cx="4199040" cy="388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uppo 20"/>
          <p:cNvGrpSpPr/>
          <p:nvPr/>
        </p:nvGrpSpPr>
        <p:grpSpPr>
          <a:xfrm>
            <a:off x="0" y="44280"/>
            <a:ext cx="9144000" cy="7123680"/>
            <a:chOff x="0" y="44280"/>
            <a:chExt cx="9144000" cy="7123680"/>
          </a:xfrm>
        </p:grpSpPr>
        <p:pic>
          <p:nvPicPr>
            <p:cNvPr id="164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6525360"/>
              <a:ext cx="9144000" cy="3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Immagine 25" descr="bandiera2italia.gif"/>
            <p:cNvPicPr/>
            <p:nvPr/>
          </p:nvPicPr>
          <p:blipFill>
            <a:blip r:embed="rId2"/>
            <a:stretch/>
          </p:blipFill>
          <p:spPr>
            <a:xfrm>
              <a:off x="5895720" y="116280"/>
              <a:ext cx="736560" cy="4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Immagine 27" descr="Logo_N2000.jpg"/>
            <p:cNvPicPr/>
            <p:nvPr/>
          </p:nvPicPr>
          <p:blipFill>
            <a:blip r:embed="rId3"/>
            <a:stretch/>
          </p:blipFill>
          <p:spPr>
            <a:xfrm>
              <a:off x="8172720" y="44280"/>
              <a:ext cx="7844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Immagine 29" descr="europa.tif"/>
            <p:cNvPicPr/>
            <p:nvPr/>
          </p:nvPicPr>
          <p:blipFill>
            <a:blip r:embed="rId4"/>
            <a:stretch/>
          </p:blipFill>
          <p:spPr>
            <a:xfrm>
              <a:off x="2555640" y="164160"/>
              <a:ext cx="180000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4" descr=""/>
            <p:cNvPicPr/>
            <p:nvPr/>
          </p:nvPicPr>
          <p:blipFill>
            <a:blip r:embed="rId5"/>
            <a:stretch/>
          </p:blipFill>
          <p:spPr>
            <a:xfrm>
              <a:off x="611280" y="692280"/>
              <a:ext cx="853272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CasellaDiTesto 16"/>
            <p:cNvSpPr/>
            <p:nvPr/>
          </p:nvSpPr>
          <p:spPr>
            <a:xfrm>
              <a:off x="541080" y="596520"/>
              <a:ext cx="86029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ffff"/>
                  </a:solidFill>
                  <a:latin typeface="DecimaWE Rg"/>
                </a:rPr>
                <a:t>PIANO DI GESTION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199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DecimaWE Rg"/>
                </a:rPr>
                <a:t>DELLE AREE “NATURA 2000” ALPI CARNICH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CasellaDiTesto 17"/>
            <p:cNvSpPr/>
            <p:nvPr/>
          </p:nvSpPr>
          <p:spPr>
            <a:xfrm>
              <a:off x="3131640" y="6516000"/>
              <a:ext cx="59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DecimaWE Rg"/>
                </a:rPr>
                <a:t>Tolmezzo, 24 Novembre 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CasellaDiTesto 19"/>
            <p:cNvSpPr/>
            <p:nvPr/>
          </p:nvSpPr>
          <p:spPr>
            <a:xfrm>
              <a:off x="0" y="6525360"/>
              <a:ext cx="384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DecimaWE Rg"/>
                </a:rPr>
                <a:t>TAVOLO TECNICO AMMINIST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Picture 3" descr=""/>
          <p:cNvPicPr/>
          <p:nvPr/>
        </p:nvPicPr>
        <p:blipFill>
          <a:blip r:embed="rId6"/>
          <a:stretch/>
        </p:blipFill>
        <p:spPr>
          <a:xfrm>
            <a:off x="611280" y="1413000"/>
            <a:ext cx="3673440" cy="5113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"/>
          <p:cNvPicPr/>
          <p:nvPr/>
        </p:nvPicPr>
        <p:blipFill>
          <a:blip r:embed="rId7"/>
          <a:stretch/>
        </p:blipFill>
        <p:spPr>
          <a:xfrm>
            <a:off x="5076720" y="1442880"/>
            <a:ext cx="3672000" cy="2273400"/>
          </a:xfrm>
          <a:prstGeom prst="rect">
            <a:avLst/>
          </a:prstGeom>
          <a:ln w="0">
            <a:noFill/>
          </a:ln>
        </p:spPr>
      </p:pic>
      <p:sp>
        <p:nvSpPr>
          <p:cNvPr id="174" name="CasellaDiTesto 18"/>
          <p:cNvSpPr/>
          <p:nvPr/>
        </p:nvSpPr>
        <p:spPr>
          <a:xfrm>
            <a:off x="5148360" y="4292640"/>
            <a:ext cx="36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DecimaWE Rg"/>
              </a:rPr>
              <a:t>Esempio Scheda di valutazione Habi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uppo 20"/>
          <p:cNvGrpSpPr/>
          <p:nvPr/>
        </p:nvGrpSpPr>
        <p:grpSpPr>
          <a:xfrm>
            <a:off x="0" y="44280"/>
            <a:ext cx="9144000" cy="7123680"/>
            <a:chOff x="0" y="44280"/>
            <a:chExt cx="9144000" cy="7123680"/>
          </a:xfrm>
        </p:grpSpPr>
        <p:pic>
          <p:nvPicPr>
            <p:cNvPr id="176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6525360"/>
              <a:ext cx="9144000" cy="3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Immagine 25" descr="bandiera2italia.gif"/>
            <p:cNvPicPr/>
            <p:nvPr/>
          </p:nvPicPr>
          <p:blipFill>
            <a:blip r:embed="rId2"/>
            <a:stretch/>
          </p:blipFill>
          <p:spPr>
            <a:xfrm>
              <a:off x="5895720" y="116280"/>
              <a:ext cx="736560" cy="4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Immagine 27" descr="Logo_N2000.jpg"/>
            <p:cNvPicPr/>
            <p:nvPr/>
          </p:nvPicPr>
          <p:blipFill>
            <a:blip r:embed="rId3"/>
            <a:stretch/>
          </p:blipFill>
          <p:spPr>
            <a:xfrm>
              <a:off x="8172720" y="44280"/>
              <a:ext cx="7844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Immagine 29" descr="europa.tif"/>
            <p:cNvPicPr/>
            <p:nvPr/>
          </p:nvPicPr>
          <p:blipFill>
            <a:blip r:embed="rId4"/>
            <a:stretch/>
          </p:blipFill>
          <p:spPr>
            <a:xfrm>
              <a:off x="2555640" y="164160"/>
              <a:ext cx="180000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4" descr=""/>
            <p:cNvPicPr/>
            <p:nvPr/>
          </p:nvPicPr>
          <p:blipFill>
            <a:blip r:embed="rId5"/>
            <a:stretch/>
          </p:blipFill>
          <p:spPr>
            <a:xfrm>
              <a:off x="611280" y="692280"/>
              <a:ext cx="853272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CasellaDiTesto 16"/>
            <p:cNvSpPr/>
            <p:nvPr/>
          </p:nvSpPr>
          <p:spPr>
            <a:xfrm>
              <a:off x="541080" y="596520"/>
              <a:ext cx="86029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ffff"/>
                  </a:solidFill>
                  <a:latin typeface="DecimaWE Rg"/>
                </a:rPr>
                <a:t>PIANO DI GESTION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199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DecimaWE Rg"/>
                </a:rPr>
                <a:t>DELLE AREE “NATURA 2000” ALPI CARNICH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CasellaDiTesto 17"/>
            <p:cNvSpPr/>
            <p:nvPr/>
          </p:nvSpPr>
          <p:spPr>
            <a:xfrm>
              <a:off x="3131640" y="6516000"/>
              <a:ext cx="59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DecimaWE Rg"/>
                </a:rPr>
                <a:t>Tolmezzo, 24 Novembre 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CasellaDiTesto 19"/>
            <p:cNvSpPr/>
            <p:nvPr/>
          </p:nvSpPr>
          <p:spPr>
            <a:xfrm>
              <a:off x="0" y="6525360"/>
              <a:ext cx="384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DecimaWE Rg"/>
                </a:rPr>
                <a:t>TAVOLO TECNICO AMMINIST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CasellaDiTesto 12"/>
          <p:cNvSpPr/>
          <p:nvPr/>
        </p:nvSpPr>
        <p:spPr>
          <a:xfrm>
            <a:off x="99720" y="1547640"/>
            <a:ext cx="63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Distribuzione del Gallo Cedrone nell’area oggetto del Pd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6"/>
          <a:stretch/>
        </p:blipFill>
        <p:spPr>
          <a:xfrm>
            <a:off x="863640" y="2205000"/>
            <a:ext cx="7812000" cy="32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uppo 20"/>
          <p:cNvGrpSpPr/>
          <p:nvPr/>
        </p:nvGrpSpPr>
        <p:grpSpPr>
          <a:xfrm>
            <a:off x="0" y="44280"/>
            <a:ext cx="9144000" cy="7123680"/>
            <a:chOff x="0" y="44280"/>
            <a:chExt cx="9144000" cy="7123680"/>
          </a:xfrm>
        </p:grpSpPr>
        <p:pic>
          <p:nvPicPr>
            <p:cNvPr id="187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6525360"/>
              <a:ext cx="9144000" cy="3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Immagine 25" descr="bandiera2italia.gif"/>
            <p:cNvPicPr/>
            <p:nvPr/>
          </p:nvPicPr>
          <p:blipFill>
            <a:blip r:embed="rId2"/>
            <a:stretch/>
          </p:blipFill>
          <p:spPr>
            <a:xfrm>
              <a:off x="5895720" y="116280"/>
              <a:ext cx="736560" cy="4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Immagine 27" descr="Logo_N2000.jpg"/>
            <p:cNvPicPr/>
            <p:nvPr/>
          </p:nvPicPr>
          <p:blipFill>
            <a:blip r:embed="rId3"/>
            <a:stretch/>
          </p:blipFill>
          <p:spPr>
            <a:xfrm>
              <a:off x="8172720" y="44280"/>
              <a:ext cx="7844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Immagine 29" descr="europa.tif"/>
            <p:cNvPicPr/>
            <p:nvPr/>
          </p:nvPicPr>
          <p:blipFill>
            <a:blip r:embed="rId4"/>
            <a:stretch/>
          </p:blipFill>
          <p:spPr>
            <a:xfrm>
              <a:off x="2555640" y="164160"/>
              <a:ext cx="180000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4" descr=""/>
            <p:cNvPicPr/>
            <p:nvPr/>
          </p:nvPicPr>
          <p:blipFill>
            <a:blip r:embed="rId5"/>
            <a:stretch/>
          </p:blipFill>
          <p:spPr>
            <a:xfrm>
              <a:off x="611280" y="692280"/>
              <a:ext cx="853272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CasellaDiTesto 16"/>
            <p:cNvSpPr/>
            <p:nvPr/>
          </p:nvSpPr>
          <p:spPr>
            <a:xfrm>
              <a:off x="541080" y="596520"/>
              <a:ext cx="86029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ffff"/>
                  </a:solidFill>
                  <a:latin typeface="DecimaWE Rg"/>
                </a:rPr>
                <a:t>PIANO DI GESTION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199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DecimaWE Rg"/>
                </a:rPr>
                <a:t>DELLE AREE “NATURA 2000” ALPI CARNICH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CasellaDiTesto 17"/>
            <p:cNvSpPr/>
            <p:nvPr/>
          </p:nvSpPr>
          <p:spPr>
            <a:xfrm>
              <a:off x="3131640" y="6516000"/>
              <a:ext cx="59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DecimaWE Rg"/>
                </a:rPr>
                <a:t>Tolmezzo, 24 Novembre 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CasellaDiTesto 19"/>
            <p:cNvSpPr/>
            <p:nvPr/>
          </p:nvSpPr>
          <p:spPr>
            <a:xfrm>
              <a:off x="0" y="6525360"/>
              <a:ext cx="384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DecimaWE Rg"/>
                </a:rPr>
                <a:t>TAVOLO TECNICO AMMINIST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Picture 2" descr=""/>
          <p:cNvPicPr/>
          <p:nvPr/>
        </p:nvPicPr>
        <p:blipFill>
          <a:blip r:embed="rId6"/>
          <a:stretch/>
        </p:blipFill>
        <p:spPr>
          <a:xfrm>
            <a:off x="611280" y="1541520"/>
            <a:ext cx="5189400" cy="3255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7"/>
          <a:stretch/>
        </p:blipFill>
        <p:spPr>
          <a:xfrm>
            <a:off x="4211640" y="3141720"/>
            <a:ext cx="47768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5:10:57Z</dcterms:created>
  <dc:creator>Pro</dc:creator>
  <dc:description/>
  <dc:language>en-US</dc:language>
  <cp:lastModifiedBy>giuseppe oriolo</cp:lastModifiedBy>
  <dcterms:modified xsi:type="dcterms:W3CDTF">2011-11-22T11:19:12Z</dcterms:modified>
  <cp:revision>51</cp:revision>
  <dc:subject/>
  <dc:title>Diapositiva 1</dc:title>
</cp:coreProperties>
</file>