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ftr" idx="2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 type="sldNum" idx="3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FA77C-BCD6-4397-97D8-D3F04AAB5A7F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C8547-70B3-4612-89D4-085F61864FA0}" type="slidenum">
              <a:rPr b="0" lang="it-IT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831960" y="744480"/>
            <a:ext cx="5148000" cy="3861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04680" y="4714560"/>
            <a:ext cx="4987800" cy="4476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29C6E-EEB8-4764-AA8D-0EF2D7A6E815}" type="slidenum">
              <a:rPr b="0" lang="it-IT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831960" y="744480"/>
            <a:ext cx="5148000" cy="3861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04680" y="4714560"/>
            <a:ext cx="4987800" cy="4476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458DB-FD9B-4396-8179-9C9566861660}" type="slidenum">
              <a:rPr b="0" lang="it-IT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831960" y="744480"/>
            <a:ext cx="5148000" cy="3861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04680" y="4714560"/>
            <a:ext cx="4987800" cy="4476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C9E61-035D-4CBC-BC8A-B298DF4ACC65}" type="slidenum">
              <a:rPr b="0" lang="it-IT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831960" y="744480"/>
            <a:ext cx="5148000" cy="3861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04680" y="4714560"/>
            <a:ext cx="4987800" cy="4476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2183F-C3F2-4583-9596-3E06B6430E8B}" type="slidenum">
              <a:rPr b="0" lang="it-IT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831960" y="744480"/>
            <a:ext cx="5148000" cy="3861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04680" y="4714560"/>
            <a:ext cx="4987800" cy="4476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C7C3A-4E75-48DE-A8FC-CD2F3B1257AB}" type="slidenum">
              <a:rPr b="0" lang="it-IT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831960" y="744480"/>
            <a:ext cx="5148000" cy="3861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04680" y="4714560"/>
            <a:ext cx="4987800" cy="4476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CF03C-3F93-4EE0-A26E-92FEAA29CAA0}" type="slidenum">
              <a:rPr b="0" lang="it-IT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831960" y="744480"/>
            <a:ext cx="5148000" cy="3861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04680" y="4714560"/>
            <a:ext cx="4987800" cy="4476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7543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142640" y="3531240"/>
            <a:ext cx="7543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3681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08320" y="1143000"/>
            <a:ext cx="3681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42640" y="3531240"/>
            <a:ext cx="3681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008320" y="3531240"/>
            <a:ext cx="3681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242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93240" y="1143000"/>
            <a:ext cx="242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244200" y="1143000"/>
            <a:ext cx="242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142640" y="3531240"/>
            <a:ext cx="242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93240" y="3531240"/>
            <a:ext cx="242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244200" y="3531240"/>
            <a:ext cx="242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142640" y="114300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3681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08320" y="1143000"/>
            <a:ext cx="3681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3681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008320" y="1143000"/>
            <a:ext cx="3681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1142640" y="3531240"/>
            <a:ext cx="3681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142640" y="114300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3681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143000"/>
            <a:ext cx="3681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5008320" y="3531240"/>
            <a:ext cx="3681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3681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08320" y="1143000"/>
            <a:ext cx="3681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142640" y="3531240"/>
            <a:ext cx="7543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7543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1142640" y="3531240"/>
            <a:ext cx="7543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3681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08320" y="1143000"/>
            <a:ext cx="3681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142640" y="3531240"/>
            <a:ext cx="3681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5008320" y="3531240"/>
            <a:ext cx="3681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242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693240" y="1143000"/>
            <a:ext cx="242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244200" y="1143000"/>
            <a:ext cx="242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1142640" y="3531240"/>
            <a:ext cx="242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693240" y="3531240"/>
            <a:ext cx="242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244200" y="3531240"/>
            <a:ext cx="242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3681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008320" y="1143000"/>
            <a:ext cx="3681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3681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08320" y="1143000"/>
            <a:ext cx="3681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142640" y="3531240"/>
            <a:ext cx="3681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3681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143000"/>
            <a:ext cx="3681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08320" y="3531240"/>
            <a:ext cx="3681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3681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143000"/>
            <a:ext cx="3681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142640" y="3531240"/>
            <a:ext cx="7543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981080" cy="59436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142640" y="114300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body"/>
          </p:nvPr>
        </p:nvSpPr>
        <p:spPr>
          <a:xfrm>
            <a:off x="1142640" y="114300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9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9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0" y="5886360"/>
            <a:ext cx="9144000" cy="971640"/>
          </a:xfrm>
          <a:prstGeom prst="rect">
            <a:avLst/>
          </a:prstGeom>
          <a:ln w="0">
            <a:noFill/>
          </a:ln>
        </p:spPr>
      </p:pic>
      <p:sp>
        <p:nvSpPr>
          <p:cNvPr id="83" name="CasellaDiTesto 28"/>
          <p:cNvSpPr/>
          <p:nvPr/>
        </p:nvSpPr>
        <p:spPr>
          <a:xfrm>
            <a:off x="3203640" y="5950080"/>
            <a:ext cx="59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DecimaWE Rg"/>
              </a:rPr>
              <a:t>25 novembre 2011 –  Ore 09.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DecimaWE Rg"/>
              </a:rPr>
              <a:t>Provincia di Udine, Sede di Tolmezz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DecimaWE Rg"/>
              </a:rPr>
              <a:t>Via Carnia Libera 1944, 39 Tolmezz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3" descr=""/>
          <p:cNvPicPr/>
          <p:nvPr/>
        </p:nvPicPr>
        <p:blipFill>
          <a:blip r:embed="rId2"/>
          <a:srcRect l="3363" t="0" r="1872" b="0"/>
          <a:stretch/>
        </p:blipFill>
        <p:spPr>
          <a:xfrm>
            <a:off x="539640" y="692280"/>
            <a:ext cx="8604360" cy="2736720"/>
          </a:xfrm>
          <a:prstGeom prst="rect">
            <a:avLst/>
          </a:prstGeom>
          <a:ln w="0">
            <a:noFill/>
          </a:ln>
        </p:spPr>
      </p:pic>
      <p:sp>
        <p:nvSpPr>
          <p:cNvPr id="85" name="CasellaDiTesto 22"/>
          <p:cNvSpPr/>
          <p:nvPr/>
        </p:nvSpPr>
        <p:spPr>
          <a:xfrm>
            <a:off x="979560" y="851040"/>
            <a:ext cx="684360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DecimaWE Rg"/>
              </a:rPr>
              <a:t>PIANO DI GESTIO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DecimaWE Rg"/>
              </a:rPr>
              <a:t>DELLE AREE “NATURA 2000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DecimaWE Rg"/>
              </a:rPr>
              <a:t>ALPI CARNIC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CasellaDiTesto 23"/>
          <p:cNvSpPr/>
          <p:nvPr/>
        </p:nvSpPr>
        <p:spPr>
          <a:xfrm>
            <a:off x="684720" y="84924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DecimaWE Rg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CasellaDiTesto 24"/>
          <p:cNvSpPr/>
          <p:nvPr/>
        </p:nvSpPr>
        <p:spPr>
          <a:xfrm>
            <a:off x="979560" y="1881360"/>
            <a:ext cx="4403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DecimaWE Rg"/>
              </a:rPr>
              <a:t>ZPS IT3321001 Alpi Carniche – SIC IT3320001 Gruppo del M.te Coglians – SIC IT3320002 Monti Dimon e Paularo – SIC IT3320003 Creta di Aip e Sella di Lanza – SIC IT3320004 Monte Auernig e Monte Coro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Immagine 25" descr="bandiera2italia.gif"/>
          <p:cNvPicPr/>
          <p:nvPr/>
        </p:nvPicPr>
        <p:blipFill>
          <a:blip r:embed="rId3"/>
          <a:stretch/>
        </p:blipFill>
        <p:spPr>
          <a:xfrm>
            <a:off x="5896080" y="115920"/>
            <a:ext cx="736560" cy="468360"/>
          </a:xfrm>
          <a:prstGeom prst="rect">
            <a:avLst/>
          </a:prstGeom>
          <a:ln w="0">
            <a:noFill/>
          </a:ln>
        </p:spPr>
      </p:pic>
      <p:pic>
        <p:nvPicPr>
          <p:cNvPr id="89" name="Immagine 27" descr="Logo_N2000.jpg"/>
          <p:cNvPicPr/>
          <p:nvPr/>
        </p:nvPicPr>
        <p:blipFill>
          <a:blip r:embed="rId4"/>
          <a:stretch/>
        </p:blipFill>
        <p:spPr>
          <a:xfrm>
            <a:off x="8172360" y="44280"/>
            <a:ext cx="784440" cy="611280"/>
          </a:xfrm>
          <a:prstGeom prst="rect">
            <a:avLst/>
          </a:prstGeom>
          <a:ln w="0">
            <a:noFill/>
          </a:ln>
        </p:spPr>
      </p:pic>
      <p:pic>
        <p:nvPicPr>
          <p:cNvPr id="90" name="Immagine 29" descr="europa.tif"/>
          <p:cNvPicPr/>
          <p:nvPr/>
        </p:nvPicPr>
        <p:blipFill>
          <a:blip r:embed="rId5"/>
          <a:stretch/>
        </p:blipFill>
        <p:spPr>
          <a:xfrm>
            <a:off x="2556000" y="165240"/>
            <a:ext cx="1800000" cy="384120"/>
          </a:xfrm>
          <a:prstGeom prst="rect">
            <a:avLst/>
          </a:prstGeom>
          <a:ln w="0">
            <a:noFill/>
          </a:ln>
        </p:spPr>
      </p:pic>
      <p:sp>
        <p:nvSpPr>
          <p:cNvPr id="91" name="CasellaDiTesto 30"/>
          <p:cNvSpPr/>
          <p:nvPr/>
        </p:nvSpPr>
        <p:spPr>
          <a:xfrm>
            <a:off x="454320" y="3009960"/>
            <a:ext cx="246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f7f7f"/>
                </a:solidFill>
                <a:latin typeface="DecimaWE Rg"/>
              </a:rPr>
              <a:t>TAVOLI TEMATIC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CasellaDiTesto 32"/>
          <p:cNvSpPr/>
          <p:nvPr/>
        </p:nvSpPr>
        <p:spPr>
          <a:xfrm>
            <a:off x="684360" y="3546360"/>
            <a:ext cx="792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95959"/>
                </a:solidFill>
                <a:latin typeface="DecimaWE Rg"/>
              </a:rPr>
              <a:t>TAVOLO TECNICO ATTIVITÀ ESTRAT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Connettore 1 33"/>
          <p:cNvSpPr/>
          <p:nvPr/>
        </p:nvSpPr>
        <p:spPr>
          <a:xfrm>
            <a:off x="826920" y="4869000"/>
            <a:ext cx="7656840" cy="0"/>
          </a:xfrm>
          <a:prstGeom prst="line">
            <a:avLst/>
          </a:prstGeom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CasellaDiTesto 34"/>
          <p:cNvSpPr/>
          <p:nvPr/>
        </p:nvSpPr>
        <p:spPr>
          <a:xfrm>
            <a:off x="684360" y="5138640"/>
            <a:ext cx="29509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DecimaWE Rg"/>
              </a:rPr>
              <a:t>PARTECIP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DecimaWE Rg"/>
              </a:rPr>
              <a:t>significa essere protagonisti delle scelte di sviluppo del proprio territorio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Immagine 30" descr="cave3.tif"/>
          <p:cNvPicPr/>
          <p:nvPr/>
        </p:nvPicPr>
        <p:blipFill>
          <a:blip r:embed="rId1"/>
          <a:stretch/>
        </p:blipFill>
        <p:spPr>
          <a:xfrm>
            <a:off x="4211640" y="1484280"/>
            <a:ext cx="2546280" cy="3600360"/>
          </a:xfrm>
          <a:prstGeom prst="rect">
            <a:avLst/>
          </a:prstGeom>
          <a:ln w="0">
            <a:noFill/>
          </a:ln>
        </p:spPr>
      </p:pic>
      <p:grpSp>
        <p:nvGrpSpPr>
          <p:cNvPr id="96" name="Gruppo 20"/>
          <p:cNvGrpSpPr/>
          <p:nvPr/>
        </p:nvGrpSpPr>
        <p:grpSpPr>
          <a:xfrm>
            <a:off x="0" y="44280"/>
            <a:ext cx="9144000" cy="6849360"/>
            <a:chOff x="0" y="44280"/>
            <a:chExt cx="9144000" cy="6849360"/>
          </a:xfrm>
        </p:grpSpPr>
        <p:pic>
          <p:nvPicPr>
            <p:cNvPr id="97" name="Picture 4" descr=""/>
            <p:cNvPicPr/>
            <p:nvPr/>
          </p:nvPicPr>
          <p:blipFill>
            <a:blip r:embed="rId2"/>
            <a:stretch/>
          </p:blipFill>
          <p:spPr>
            <a:xfrm>
              <a:off x="0" y="6525360"/>
              <a:ext cx="9144000" cy="33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Immagine 25" descr="bandiera2italia.gif"/>
            <p:cNvPicPr/>
            <p:nvPr/>
          </p:nvPicPr>
          <p:blipFill>
            <a:blip r:embed="rId3"/>
            <a:stretch/>
          </p:blipFill>
          <p:spPr>
            <a:xfrm>
              <a:off x="5895720" y="116280"/>
              <a:ext cx="736560" cy="46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Immagine 27" descr="Logo_N2000.jpg"/>
            <p:cNvPicPr/>
            <p:nvPr/>
          </p:nvPicPr>
          <p:blipFill>
            <a:blip r:embed="rId4"/>
            <a:stretch/>
          </p:blipFill>
          <p:spPr>
            <a:xfrm>
              <a:off x="8172720" y="44280"/>
              <a:ext cx="784440" cy="61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Immagine 29" descr="europa.tif"/>
            <p:cNvPicPr/>
            <p:nvPr/>
          </p:nvPicPr>
          <p:blipFill>
            <a:blip r:embed="rId5"/>
            <a:stretch/>
          </p:blipFill>
          <p:spPr>
            <a:xfrm>
              <a:off x="2555640" y="164160"/>
              <a:ext cx="1800000" cy="38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Picture 4" descr=""/>
            <p:cNvPicPr/>
            <p:nvPr/>
          </p:nvPicPr>
          <p:blipFill>
            <a:blip r:embed="rId6"/>
            <a:stretch/>
          </p:blipFill>
          <p:spPr>
            <a:xfrm>
              <a:off x="611280" y="692280"/>
              <a:ext cx="8532720" cy="72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CasellaDiTesto 16"/>
            <p:cNvSpPr/>
            <p:nvPr/>
          </p:nvSpPr>
          <p:spPr>
            <a:xfrm>
              <a:off x="541080" y="596520"/>
              <a:ext cx="8602920" cy="81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3200" spc="-1" strike="noStrike">
                  <a:solidFill>
                    <a:srgbClr val="ffffff"/>
                  </a:solidFill>
                  <a:latin typeface="DecimaWE Rg"/>
                </a:rPr>
                <a:t>PIANO DI GESTIONE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199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ffffff"/>
                  </a:solidFill>
                  <a:latin typeface="DecimaWE Rg"/>
                </a:rPr>
                <a:t>DELLE AREE “NATURA 2000” ALPI CARNICH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CasellaDiTesto 17"/>
            <p:cNvSpPr/>
            <p:nvPr/>
          </p:nvSpPr>
          <p:spPr>
            <a:xfrm>
              <a:off x="3131640" y="6516000"/>
              <a:ext cx="597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DecimaWE Rg"/>
                </a:rPr>
                <a:t>Tolmezzo, 25 Novembre 20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CasellaDiTesto 19"/>
            <p:cNvSpPr/>
            <p:nvPr/>
          </p:nvSpPr>
          <p:spPr>
            <a:xfrm>
              <a:off x="0" y="6525360"/>
              <a:ext cx="565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DecimaWE Rg"/>
                </a:rPr>
                <a:t>TAVOLO TECNICO ATTIVITÀ ESTRATTI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5" name="Immagine 24" descr="cave4.tif"/>
          <p:cNvPicPr/>
          <p:nvPr/>
        </p:nvPicPr>
        <p:blipFill>
          <a:blip r:embed="rId7"/>
          <a:stretch/>
        </p:blipFill>
        <p:spPr>
          <a:xfrm>
            <a:off x="6597720" y="2924280"/>
            <a:ext cx="2546280" cy="3600360"/>
          </a:xfrm>
          <a:prstGeom prst="rect">
            <a:avLst/>
          </a:prstGeom>
          <a:ln w="0">
            <a:noFill/>
          </a:ln>
        </p:spPr>
      </p:pic>
      <p:pic>
        <p:nvPicPr>
          <p:cNvPr id="106" name="Immagine 26" descr="cave1.tif"/>
          <p:cNvPicPr/>
          <p:nvPr/>
        </p:nvPicPr>
        <p:blipFill>
          <a:blip r:embed="rId8"/>
          <a:stretch/>
        </p:blipFill>
        <p:spPr>
          <a:xfrm>
            <a:off x="395280" y="1341360"/>
            <a:ext cx="2546280" cy="3598920"/>
          </a:xfrm>
          <a:prstGeom prst="rect">
            <a:avLst/>
          </a:prstGeom>
          <a:ln w="0">
            <a:noFill/>
          </a:ln>
        </p:spPr>
      </p:pic>
      <p:pic>
        <p:nvPicPr>
          <p:cNvPr id="107" name="Immagine 28" descr="cave2.tif"/>
          <p:cNvPicPr/>
          <p:nvPr/>
        </p:nvPicPr>
        <p:blipFill>
          <a:blip r:embed="rId9"/>
          <a:stretch/>
        </p:blipFill>
        <p:spPr>
          <a:xfrm>
            <a:off x="2195640" y="2924280"/>
            <a:ext cx="2546280" cy="36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Gruppo 20"/>
          <p:cNvGrpSpPr/>
          <p:nvPr/>
        </p:nvGrpSpPr>
        <p:grpSpPr>
          <a:xfrm>
            <a:off x="0" y="44280"/>
            <a:ext cx="9144000" cy="6849360"/>
            <a:chOff x="0" y="44280"/>
            <a:chExt cx="9144000" cy="6849360"/>
          </a:xfrm>
        </p:grpSpPr>
        <p:pic>
          <p:nvPicPr>
            <p:cNvPr id="109" name="Picture 4" descr=""/>
            <p:cNvPicPr/>
            <p:nvPr/>
          </p:nvPicPr>
          <p:blipFill>
            <a:blip r:embed="rId1"/>
            <a:stretch/>
          </p:blipFill>
          <p:spPr>
            <a:xfrm>
              <a:off x="0" y="6525360"/>
              <a:ext cx="9144000" cy="33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Immagine 25" descr="bandiera2italia.gif"/>
            <p:cNvPicPr/>
            <p:nvPr/>
          </p:nvPicPr>
          <p:blipFill>
            <a:blip r:embed="rId2"/>
            <a:stretch/>
          </p:blipFill>
          <p:spPr>
            <a:xfrm>
              <a:off x="5895720" y="116280"/>
              <a:ext cx="736560" cy="46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Immagine 27" descr="Logo_N2000.jpg"/>
            <p:cNvPicPr/>
            <p:nvPr/>
          </p:nvPicPr>
          <p:blipFill>
            <a:blip r:embed="rId3"/>
            <a:stretch/>
          </p:blipFill>
          <p:spPr>
            <a:xfrm>
              <a:off x="8172720" y="44280"/>
              <a:ext cx="784440" cy="61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Immagine 29" descr="europa.tif"/>
            <p:cNvPicPr/>
            <p:nvPr/>
          </p:nvPicPr>
          <p:blipFill>
            <a:blip r:embed="rId4"/>
            <a:stretch/>
          </p:blipFill>
          <p:spPr>
            <a:xfrm>
              <a:off x="2555640" y="164160"/>
              <a:ext cx="1800000" cy="38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Picture 4" descr=""/>
            <p:cNvPicPr/>
            <p:nvPr/>
          </p:nvPicPr>
          <p:blipFill>
            <a:blip r:embed="rId5"/>
            <a:stretch/>
          </p:blipFill>
          <p:spPr>
            <a:xfrm>
              <a:off x="611280" y="692280"/>
              <a:ext cx="8532720" cy="72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CasellaDiTesto 16"/>
            <p:cNvSpPr/>
            <p:nvPr/>
          </p:nvSpPr>
          <p:spPr>
            <a:xfrm>
              <a:off x="541080" y="596520"/>
              <a:ext cx="8602920" cy="81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3200" spc="-1" strike="noStrike">
                  <a:solidFill>
                    <a:srgbClr val="ffffff"/>
                  </a:solidFill>
                  <a:latin typeface="DecimaWE Rg"/>
                </a:rPr>
                <a:t>PIANO DI GESTIONE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199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ffffff"/>
                  </a:solidFill>
                  <a:latin typeface="DecimaWE Rg"/>
                </a:rPr>
                <a:t>DELLE AREE “NATURA 2000” ALPI CARNICH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CasellaDiTesto 17"/>
            <p:cNvSpPr/>
            <p:nvPr/>
          </p:nvSpPr>
          <p:spPr>
            <a:xfrm>
              <a:off x="3131640" y="6516000"/>
              <a:ext cx="597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DecimaWE Rg"/>
                </a:rPr>
                <a:t>Tolmezzo, 25 Novembre 20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CasellaDiTesto 19"/>
            <p:cNvSpPr/>
            <p:nvPr/>
          </p:nvSpPr>
          <p:spPr>
            <a:xfrm>
              <a:off x="0" y="6525360"/>
              <a:ext cx="565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DecimaWE Rg"/>
                </a:rPr>
                <a:t>TAVOLO TECNICO ATTIVITÀ ESTRATTI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7" name="Picture 2" descr=""/>
          <p:cNvPicPr/>
          <p:nvPr/>
        </p:nvPicPr>
        <p:blipFill>
          <a:blip r:embed="rId6"/>
          <a:stretch/>
        </p:blipFill>
        <p:spPr>
          <a:xfrm>
            <a:off x="684360" y="1844640"/>
            <a:ext cx="2460600" cy="18115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" descr=""/>
          <p:cNvPicPr/>
          <p:nvPr/>
        </p:nvPicPr>
        <p:blipFill>
          <a:blip r:embed="rId7"/>
          <a:stretch/>
        </p:blipFill>
        <p:spPr>
          <a:xfrm>
            <a:off x="684360" y="4292640"/>
            <a:ext cx="2701800" cy="18730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"/>
          <p:cNvPicPr/>
          <p:nvPr/>
        </p:nvPicPr>
        <p:blipFill>
          <a:blip r:embed="rId8"/>
          <a:stretch/>
        </p:blipFill>
        <p:spPr>
          <a:xfrm>
            <a:off x="3492360" y="1844640"/>
            <a:ext cx="2179800" cy="18003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"/>
          <p:cNvPicPr/>
          <p:nvPr/>
        </p:nvPicPr>
        <p:blipFill>
          <a:blip r:embed="rId9"/>
          <a:stretch/>
        </p:blipFill>
        <p:spPr>
          <a:xfrm>
            <a:off x="3924360" y="4365720"/>
            <a:ext cx="2944800" cy="1800000"/>
          </a:xfrm>
          <a:prstGeom prst="rect">
            <a:avLst/>
          </a:prstGeom>
          <a:ln w="0">
            <a:noFill/>
          </a:ln>
        </p:spPr>
      </p:pic>
      <p:sp>
        <p:nvSpPr>
          <p:cNvPr id="121" name="CasellaDiTesto 18"/>
          <p:cNvSpPr/>
          <p:nvPr/>
        </p:nvSpPr>
        <p:spPr>
          <a:xfrm>
            <a:off x="6233040" y="2349360"/>
            <a:ext cx="19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Cava di Pierab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CasellaDiTesto 20"/>
          <p:cNvSpPr/>
          <p:nvPr/>
        </p:nvSpPr>
        <p:spPr>
          <a:xfrm>
            <a:off x="6896880" y="3860640"/>
            <a:ext cx="189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Cava di Sigilet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CasellaDiTesto 21"/>
          <p:cNvSpPr/>
          <p:nvPr/>
        </p:nvSpPr>
        <p:spPr>
          <a:xfrm>
            <a:off x="657360" y="155736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abitat FV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CasellaDiTesto 22"/>
          <p:cNvSpPr/>
          <p:nvPr/>
        </p:nvSpPr>
        <p:spPr>
          <a:xfrm>
            <a:off x="657360" y="393372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abitat FV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CasellaDiTesto 23"/>
          <p:cNvSpPr/>
          <p:nvPr/>
        </p:nvSpPr>
        <p:spPr>
          <a:xfrm>
            <a:off x="3493800" y="1557360"/>
            <a:ext cx="138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abitat N2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CasellaDiTesto 24"/>
          <p:cNvSpPr/>
          <p:nvPr/>
        </p:nvSpPr>
        <p:spPr>
          <a:xfrm>
            <a:off x="3974760" y="3984480"/>
            <a:ext cx="138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abitat N2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Gruppo 20"/>
          <p:cNvGrpSpPr/>
          <p:nvPr/>
        </p:nvGrpSpPr>
        <p:grpSpPr>
          <a:xfrm>
            <a:off x="0" y="44280"/>
            <a:ext cx="9144000" cy="6849360"/>
            <a:chOff x="0" y="44280"/>
            <a:chExt cx="9144000" cy="6849360"/>
          </a:xfrm>
        </p:grpSpPr>
        <p:pic>
          <p:nvPicPr>
            <p:cNvPr id="128" name="Picture 4" descr=""/>
            <p:cNvPicPr/>
            <p:nvPr/>
          </p:nvPicPr>
          <p:blipFill>
            <a:blip r:embed="rId1"/>
            <a:stretch/>
          </p:blipFill>
          <p:spPr>
            <a:xfrm>
              <a:off x="0" y="6525360"/>
              <a:ext cx="9144000" cy="33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" name="Immagine 25" descr="bandiera2italia.gif"/>
            <p:cNvPicPr/>
            <p:nvPr/>
          </p:nvPicPr>
          <p:blipFill>
            <a:blip r:embed="rId2"/>
            <a:stretch/>
          </p:blipFill>
          <p:spPr>
            <a:xfrm>
              <a:off x="5895720" y="116280"/>
              <a:ext cx="736560" cy="46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Immagine 27" descr="Logo_N2000.jpg"/>
            <p:cNvPicPr/>
            <p:nvPr/>
          </p:nvPicPr>
          <p:blipFill>
            <a:blip r:embed="rId3"/>
            <a:stretch/>
          </p:blipFill>
          <p:spPr>
            <a:xfrm>
              <a:off x="8172720" y="44280"/>
              <a:ext cx="784440" cy="61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Immagine 29" descr="europa.tif"/>
            <p:cNvPicPr/>
            <p:nvPr/>
          </p:nvPicPr>
          <p:blipFill>
            <a:blip r:embed="rId4"/>
            <a:stretch/>
          </p:blipFill>
          <p:spPr>
            <a:xfrm>
              <a:off x="2555640" y="164160"/>
              <a:ext cx="1800000" cy="38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Picture 4" descr=""/>
            <p:cNvPicPr/>
            <p:nvPr/>
          </p:nvPicPr>
          <p:blipFill>
            <a:blip r:embed="rId5"/>
            <a:stretch/>
          </p:blipFill>
          <p:spPr>
            <a:xfrm>
              <a:off x="611280" y="692280"/>
              <a:ext cx="8532720" cy="72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CasellaDiTesto 16"/>
            <p:cNvSpPr/>
            <p:nvPr/>
          </p:nvSpPr>
          <p:spPr>
            <a:xfrm>
              <a:off x="541080" y="596520"/>
              <a:ext cx="8602920" cy="81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3200" spc="-1" strike="noStrike">
                  <a:solidFill>
                    <a:srgbClr val="ffffff"/>
                  </a:solidFill>
                  <a:latin typeface="DecimaWE Rg"/>
                </a:rPr>
                <a:t>PIANO DI GESTIONE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199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ffffff"/>
                  </a:solidFill>
                  <a:latin typeface="DecimaWE Rg"/>
                </a:rPr>
                <a:t>DELLE AREE “NATURA 2000” ALPI CARNICH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CasellaDiTesto 17"/>
            <p:cNvSpPr/>
            <p:nvPr/>
          </p:nvSpPr>
          <p:spPr>
            <a:xfrm>
              <a:off x="3131640" y="6516000"/>
              <a:ext cx="597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DecimaWE Rg"/>
                </a:rPr>
                <a:t>Tolmezzo, 25 Novembre 20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CasellaDiTesto 19"/>
            <p:cNvSpPr/>
            <p:nvPr/>
          </p:nvSpPr>
          <p:spPr>
            <a:xfrm>
              <a:off x="0" y="6525360"/>
              <a:ext cx="565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DecimaWE Rg"/>
                </a:rPr>
                <a:t>TAVOLO TECNICO ATTIVITÀ ESTRATTI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6" name="Picture 4" descr=""/>
          <p:cNvPicPr/>
          <p:nvPr/>
        </p:nvPicPr>
        <p:blipFill>
          <a:blip r:embed="rId6"/>
          <a:stretch/>
        </p:blipFill>
        <p:spPr>
          <a:xfrm>
            <a:off x="971640" y="2205000"/>
            <a:ext cx="3024000" cy="20541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" descr=""/>
          <p:cNvPicPr/>
          <p:nvPr/>
        </p:nvPicPr>
        <p:blipFill>
          <a:blip r:embed="rId7"/>
          <a:stretch/>
        </p:blipFill>
        <p:spPr>
          <a:xfrm>
            <a:off x="4932360" y="2133720"/>
            <a:ext cx="2808360" cy="2173320"/>
          </a:xfrm>
          <a:prstGeom prst="rect">
            <a:avLst/>
          </a:prstGeom>
          <a:ln w="0">
            <a:noFill/>
          </a:ln>
        </p:spPr>
      </p:pic>
      <p:sp>
        <p:nvSpPr>
          <p:cNvPr id="138" name="CasellaDiTesto 18"/>
          <p:cNvSpPr/>
          <p:nvPr/>
        </p:nvSpPr>
        <p:spPr>
          <a:xfrm>
            <a:off x="1017720" y="177336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abitat FV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CasellaDiTesto 20"/>
          <p:cNvSpPr/>
          <p:nvPr/>
        </p:nvSpPr>
        <p:spPr>
          <a:xfrm>
            <a:off x="4982760" y="1844640"/>
            <a:ext cx="138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abitat N2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CasellaDiTesto 21"/>
          <p:cNvSpPr/>
          <p:nvPr/>
        </p:nvSpPr>
        <p:spPr>
          <a:xfrm>
            <a:off x="2989080" y="4653000"/>
            <a:ext cx="203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Cava di Pramos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Gruppo 20"/>
          <p:cNvGrpSpPr/>
          <p:nvPr/>
        </p:nvGrpSpPr>
        <p:grpSpPr>
          <a:xfrm>
            <a:off x="0" y="44280"/>
            <a:ext cx="9144000" cy="6849360"/>
            <a:chOff x="0" y="44280"/>
            <a:chExt cx="9144000" cy="6849360"/>
          </a:xfrm>
        </p:grpSpPr>
        <p:pic>
          <p:nvPicPr>
            <p:cNvPr id="142" name="Picture 4" descr=""/>
            <p:cNvPicPr/>
            <p:nvPr/>
          </p:nvPicPr>
          <p:blipFill>
            <a:blip r:embed="rId1"/>
            <a:stretch/>
          </p:blipFill>
          <p:spPr>
            <a:xfrm>
              <a:off x="0" y="6525360"/>
              <a:ext cx="9144000" cy="33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Immagine 25" descr="bandiera2italia.gif"/>
            <p:cNvPicPr/>
            <p:nvPr/>
          </p:nvPicPr>
          <p:blipFill>
            <a:blip r:embed="rId2"/>
            <a:stretch/>
          </p:blipFill>
          <p:spPr>
            <a:xfrm>
              <a:off x="5895720" y="116280"/>
              <a:ext cx="736560" cy="46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Immagine 27" descr="Logo_N2000.jpg"/>
            <p:cNvPicPr/>
            <p:nvPr/>
          </p:nvPicPr>
          <p:blipFill>
            <a:blip r:embed="rId3"/>
            <a:stretch/>
          </p:blipFill>
          <p:spPr>
            <a:xfrm>
              <a:off x="8172720" y="44280"/>
              <a:ext cx="784440" cy="61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Immagine 29" descr="europa.tif"/>
            <p:cNvPicPr/>
            <p:nvPr/>
          </p:nvPicPr>
          <p:blipFill>
            <a:blip r:embed="rId4"/>
            <a:stretch/>
          </p:blipFill>
          <p:spPr>
            <a:xfrm>
              <a:off x="2555640" y="164160"/>
              <a:ext cx="1800000" cy="38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Picture 4" descr=""/>
            <p:cNvPicPr/>
            <p:nvPr/>
          </p:nvPicPr>
          <p:blipFill>
            <a:blip r:embed="rId5"/>
            <a:stretch/>
          </p:blipFill>
          <p:spPr>
            <a:xfrm>
              <a:off x="611280" y="692280"/>
              <a:ext cx="8532720" cy="72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CasellaDiTesto 16"/>
            <p:cNvSpPr/>
            <p:nvPr/>
          </p:nvSpPr>
          <p:spPr>
            <a:xfrm>
              <a:off x="541080" y="596520"/>
              <a:ext cx="8602920" cy="81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3200" spc="-1" strike="noStrike">
                  <a:solidFill>
                    <a:srgbClr val="ffffff"/>
                  </a:solidFill>
                  <a:latin typeface="DecimaWE Rg"/>
                </a:rPr>
                <a:t>PIANO DI GESTIONE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199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ffffff"/>
                  </a:solidFill>
                  <a:latin typeface="DecimaWE Rg"/>
                </a:rPr>
                <a:t>DELLE AREE “NATURA 2000” ALPI CARNICH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CasellaDiTesto 17"/>
            <p:cNvSpPr/>
            <p:nvPr/>
          </p:nvSpPr>
          <p:spPr>
            <a:xfrm>
              <a:off x="3131640" y="6516000"/>
              <a:ext cx="597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DecimaWE Rg"/>
                </a:rPr>
                <a:t>Tolmezzo, 25 Novembre 20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CasellaDiTesto 19"/>
            <p:cNvSpPr/>
            <p:nvPr/>
          </p:nvSpPr>
          <p:spPr>
            <a:xfrm>
              <a:off x="0" y="6525360"/>
              <a:ext cx="565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DecimaWE Rg"/>
                </a:rPr>
                <a:t>TAVOLO TECNICO ATTIVITÀ ESTRATTI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Rettangolo 13"/>
          <p:cNvSpPr/>
          <p:nvPr/>
        </p:nvSpPr>
        <p:spPr>
          <a:xfrm>
            <a:off x="611280" y="1878120"/>
            <a:ext cx="835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DecimaWE Rg"/>
              </a:rPr>
              <a:t>Misure di conservazione generali nelle Z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DecimaWE Rg"/>
              </a:rPr>
              <a:t>(art. 3 della L.R. 14/2007 come modificato dall’art. 46 della L.R. 6/2008 e dagli artt. 16 e 21 della L.R. 7/200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ttangolo 14"/>
          <p:cNvSpPr/>
          <p:nvPr/>
        </p:nvSpPr>
        <p:spPr>
          <a:xfrm>
            <a:off x="611280" y="3429000"/>
            <a:ext cx="828180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cimaWE Rg"/>
              </a:rPr>
              <a:t>Art. 3.2 2. In particolare, nelle ZPS </a:t>
            </a:r>
            <a:r>
              <a:rPr b="1" i="1" lang="en-US" sz="1400" spc="-1" strike="noStrike">
                <a:solidFill>
                  <a:srgbClr val="00b050"/>
                </a:solidFill>
                <a:latin typeface="DecimaWE Rg"/>
              </a:rPr>
              <a:t>sono vietati </a:t>
            </a:r>
            <a:r>
              <a:rPr b="0" lang="en-US" sz="1400" spc="-1" strike="noStrike">
                <a:solidFill>
                  <a:srgbClr val="000000"/>
                </a:solidFill>
                <a:latin typeface="DecimaWE Rg"/>
              </a:rPr>
              <a:t>le attività, le opere e gli interventi di segui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cimaWE Rg"/>
              </a:rPr>
              <a:t>indicat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cimaWE Rg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DecimaWE Rg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DecimaWE Rg"/>
              </a:rPr>
              <a:t>b) </a:t>
            </a:r>
            <a:r>
              <a:rPr b="1" i="1" lang="en-US" sz="1400" spc="-1" strike="noStrike">
                <a:solidFill>
                  <a:srgbClr val="00b050"/>
                </a:solidFill>
                <a:latin typeface="DecimaWE Rg"/>
              </a:rPr>
              <a:t>l'apertura di nuove cave o l'ampliamento di quelle esistenti</a:t>
            </a:r>
            <a:r>
              <a:rPr b="0" lang="en-US" sz="1400" spc="-1" strike="noStrike">
                <a:solidFill>
                  <a:srgbClr val="000000"/>
                </a:solidFill>
                <a:latin typeface="DecimaWE Rg"/>
              </a:rPr>
              <a:t>, a eccezione di quelle previste negli </a:t>
            </a:r>
            <a:r>
              <a:rPr b="0" lang="en-US" sz="1400" spc="-1" strike="noStrike">
                <a:solidFill>
                  <a:srgbClr val="000000"/>
                </a:solidFill>
                <a:latin typeface="DecimaWE Rg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DecimaWE Rg"/>
              </a:rPr>
              <a:t>strumenti di pianificazione generale e di settore vigenti alla data di entrata in vigore della presente legge </a:t>
            </a:r>
            <a:r>
              <a:rPr b="0" lang="en-US" sz="1400" spc="-1" strike="noStrike">
                <a:solidFill>
                  <a:srgbClr val="000000"/>
                </a:solidFill>
                <a:latin typeface="DecimaWE Rg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DecimaWE Rg"/>
              </a:rPr>
              <a:t>o approvati entro il periodo transitorio di cui all'articolo 21 della legge regionale n. 7/2008, prevedendo </a:t>
            </a:r>
            <a:r>
              <a:rPr b="0" lang="en-US" sz="1400" spc="-1" strike="noStrike">
                <a:solidFill>
                  <a:srgbClr val="000000"/>
                </a:solidFill>
                <a:latin typeface="DecimaWE Rg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DecimaWE Rg"/>
              </a:rPr>
              <a:t>altresì che il recupero  finale delle aree interessate dall'attività' estrattiva sia realizzato a fini naturalistici, </a:t>
            </a:r>
            <a:r>
              <a:rPr b="0" lang="en-US" sz="1400" spc="-1" strike="noStrike">
                <a:solidFill>
                  <a:srgbClr val="000000"/>
                </a:solidFill>
                <a:latin typeface="DecimaWE Rg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DecimaWE Rg"/>
              </a:rPr>
              <a:t>e a condizione che sia conseguita la positiva valutazione di incidenza dei singoli progetti ovvero degli </a:t>
            </a:r>
            <a:r>
              <a:rPr b="0" lang="en-US" sz="1400" spc="-1" strike="noStrike">
                <a:solidFill>
                  <a:srgbClr val="000000"/>
                </a:solidFill>
                <a:latin typeface="DecimaWE Rg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DecimaWE Rg"/>
              </a:rPr>
              <a:t>strumenti di pianificazione generale e di settore di riferimento dell'intervento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Gruppo 20"/>
          <p:cNvGrpSpPr/>
          <p:nvPr/>
        </p:nvGrpSpPr>
        <p:grpSpPr>
          <a:xfrm>
            <a:off x="0" y="44280"/>
            <a:ext cx="9144000" cy="6849360"/>
            <a:chOff x="0" y="44280"/>
            <a:chExt cx="9144000" cy="6849360"/>
          </a:xfrm>
        </p:grpSpPr>
        <p:pic>
          <p:nvPicPr>
            <p:cNvPr id="153" name="Picture 4" descr=""/>
            <p:cNvPicPr/>
            <p:nvPr/>
          </p:nvPicPr>
          <p:blipFill>
            <a:blip r:embed="rId1"/>
            <a:stretch/>
          </p:blipFill>
          <p:spPr>
            <a:xfrm>
              <a:off x="0" y="6525360"/>
              <a:ext cx="9144000" cy="33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" name="Immagine 25" descr="bandiera2italia.gif"/>
            <p:cNvPicPr/>
            <p:nvPr/>
          </p:nvPicPr>
          <p:blipFill>
            <a:blip r:embed="rId2"/>
            <a:stretch/>
          </p:blipFill>
          <p:spPr>
            <a:xfrm>
              <a:off x="5895720" y="116280"/>
              <a:ext cx="736560" cy="46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Immagine 27" descr="Logo_N2000.jpg"/>
            <p:cNvPicPr/>
            <p:nvPr/>
          </p:nvPicPr>
          <p:blipFill>
            <a:blip r:embed="rId3"/>
            <a:stretch/>
          </p:blipFill>
          <p:spPr>
            <a:xfrm>
              <a:off x="8172720" y="44280"/>
              <a:ext cx="784440" cy="61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Immagine 29" descr="europa.tif"/>
            <p:cNvPicPr/>
            <p:nvPr/>
          </p:nvPicPr>
          <p:blipFill>
            <a:blip r:embed="rId4"/>
            <a:stretch/>
          </p:blipFill>
          <p:spPr>
            <a:xfrm>
              <a:off x="2555640" y="164160"/>
              <a:ext cx="1800000" cy="38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Picture 4" descr=""/>
            <p:cNvPicPr/>
            <p:nvPr/>
          </p:nvPicPr>
          <p:blipFill>
            <a:blip r:embed="rId5"/>
            <a:stretch/>
          </p:blipFill>
          <p:spPr>
            <a:xfrm>
              <a:off x="611280" y="692280"/>
              <a:ext cx="8532720" cy="72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CasellaDiTesto 16"/>
            <p:cNvSpPr/>
            <p:nvPr/>
          </p:nvSpPr>
          <p:spPr>
            <a:xfrm>
              <a:off x="541080" y="596520"/>
              <a:ext cx="8602920" cy="81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3200" spc="-1" strike="noStrike">
                  <a:solidFill>
                    <a:srgbClr val="ffffff"/>
                  </a:solidFill>
                  <a:latin typeface="DecimaWE Rg"/>
                </a:rPr>
                <a:t>PIANO DI GESTIONE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199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ffffff"/>
                  </a:solidFill>
                  <a:latin typeface="DecimaWE Rg"/>
                </a:rPr>
                <a:t>DELLE AREE “NATURA 2000” ALPI CARNICH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CasellaDiTesto 17"/>
            <p:cNvSpPr/>
            <p:nvPr/>
          </p:nvSpPr>
          <p:spPr>
            <a:xfrm>
              <a:off x="3131640" y="6516000"/>
              <a:ext cx="597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DecimaWE Rg"/>
                </a:rPr>
                <a:t>Tolmezzo, 25 Novembre 20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CasellaDiTesto 19"/>
            <p:cNvSpPr/>
            <p:nvPr/>
          </p:nvSpPr>
          <p:spPr>
            <a:xfrm>
              <a:off x="0" y="6525360"/>
              <a:ext cx="565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DecimaWE Rg"/>
                </a:rPr>
                <a:t>TAVOLO TECNICO ATTIVITÀ ESTRATTI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Rettangolo 18"/>
          <p:cNvSpPr/>
          <p:nvPr/>
        </p:nvSpPr>
        <p:spPr>
          <a:xfrm>
            <a:off x="826920" y="1878120"/>
            <a:ext cx="79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DecimaWE Rg"/>
              </a:rPr>
              <a:t>D.M. 17/10/07 n. 28223 (Decreto Pecoraro Scani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DecimaWE Rg"/>
              </a:rPr>
              <a:t>Criteri minimi uniformi per la definizione delle misure di conservazione valide 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DecimaWE Rg"/>
              </a:rPr>
              <a:t>tutte le tipologie di Z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ttangolo 20"/>
          <p:cNvSpPr/>
          <p:nvPr/>
        </p:nvSpPr>
        <p:spPr>
          <a:xfrm>
            <a:off x="792000" y="3995640"/>
            <a:ext cx="80647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DecimaWE Rg"/>
              </a:rPr>
              <a:t>n) </a:t>
            </a:r>
            <a:r>
              <a:rPr b="1" i="1" lang="it-IT" sz="1600" spc="-1" strike="noStrike">
                <a:solidFill>
                  <a:srgbClr val="00b050"/>
                </a:solidFill>
                <a:latin typeface="DecimaWE Rg"/>
              </a:rPr>
              <a:t>apertura di nuove cave e ampliamento di quelle esistenti</a:t>
            </a:r>
            <a:r>
              <a:rPr b="0" lang="it-IT" sz="1600" spc="-1" strike="noStrike">
                <a:solidFill>
                  <a:srgbClr val="000000"/>
                </a:solidFill>
                <a:latin typeface="DecimaWE Rg"/>
              </a:rPr>
              <a:t>, ad eccezione di quelle previste negli strumenti di pianificazione generali e di settore vigenti alla data di emanazione del presente atto o che verranno approvati entro il periodo di transizione, prevedendo altresì che il recupero finale delle aree interessate dall'attività estrattiva sia realizzato a fini naturalistici e a condizione che sia conseguita la positiva valutazione di incidenza dei singoli progetti ovvero degli strumenti di pianificazione generali e di settore di riferimento dell'intervento; […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ttangolo 21"/>
          <p:cNvSpPr/>
          <p:nvPr/>
        </p:nvSpPr>
        <p:spPr>
          <a:xfrm>
            <a:off x="755640" y="3068640"/>
            <a:ext cx="8137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DecimaWE Rg"/>
              </a:rPr>
              <a:t>Art. 5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DecimaWE Rg"/>
              </a:rPr>
              <a:t>1. Per tutte le ZPS, le regioni e le province autonome, con l'atto di cui all'art. 3, comma 1, del presente decreto, provvedono a porre i seguenti </a:t>
            </a:r>
            <a:r>
              <a:rPr b="1" i="1" lang="it-IT" sz="1600" spc="-1" strike="noStrike">
                <a:solidFill>
                  <a:srgbClr val="00b050"/>
                </a:solidFill>
                <a:latin typeface="DecimaWE Rg"/>
              </a:rPr>
              <a:t>divieti</a:t>
            </a:r>
            <a:r>
              <a:rPr b="0" lang="it-IT" sz="1600" spc="-1" strike="noStrike">
                <a:solidFill>
                  <a:srgbClr val="000000"/>
                </a:solidFill>
                <a:latin typeface="DecimaWE Rg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Gruppo 20"/>
          <p:cNvGrpSpPr/>
          <p:nvPr/>
        </p:nvGrpSpPr>
        <p:grpSpPr>
          <a:xfrm>
            <a:off x="0" y="44280"/>
            <a:ext cx="9144000" cy="6849360"/>
            <a:chOff x="0" y="44280"/>
            <a:chExt cx="9144000" cy="6849360"/>
          </a:xfrm>
        </p:grpSpPr>
        <p:pic>
          <p:nvPicPr>
            <p:cNvPr id="165" name="Picture 4" descr=""/>
            <p:cNvPicPr/>
            <p:nvPr/>
          </p:nvPicPr>
          <p:blipFill>
            <a:blip r:embed="rId1"/>
            <a:stretch/>
          </p:blipFill>
          <p:spPr>
            <a:xfrm>
              <a:off x="0" y="6525360"/>
              <a:ext cx="9144000" cy="33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Immagine 25" descr="bandiera2italia.gif"/>
            <p:cNvPicPr/>
            <p:nvPr/>
          </p:nvPicPr>
          <p:blipFill>
            <a:blip r:embed="rId2"/>
            <a:stretch/>
          </p:blipFill>
          <p:spPr>
            <a:xfrm>
              <a:off x="5895720" y="116280"/>
              <a:ext cx="736560" cy="46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Immagine 27" descr="Logo_N2000.jpg"/>
            <p:cNvPicPr/>
            <p:nvPr/>
          </p:nvPicPr>
          <p:blipFill>
            <a:blip r:embed="rId3"/>
            <a:stretch/>
          </p:blipFill>
          <p:spPr>
            <a:xfrm>
              <a:off x="8172720" y="44280"/>
              <a:ext cx="784440" cy="61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Immagine 29" descr="europa.tif"/>
            <p:cNvPicPr/>
            <p:nvPr/>
          </p:nvPicPr>
          <p:blipFill>
            <a:blip r:embed="rId4"/>
            <a:stretch/>
          </p:blipFill>
          <p:spPr>
            <a:xfrm>
              <a:off x="2555640" y="164160"/>
              <a:ext cx="1800000" cy="38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Picture 4" descr=""/>
            <p:cNvPicPr/>
            <p:nvPr/>
          </p:nvPicPr>
          <p:blipFill>
            <a:blip r:embed="rId5"/>
            <a:stretch/>
          </p:blipFill>
          <p:spPr>
            <a:xfrm>
              <a:off x="611280" y="692280"/>
              <a:ext cx="8532720" cy="72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CasellaDiTesto 16"/>
            <p:cNvSpPr/>
            <p:nvPr/>
          </p:nvSpPr>
          <p:spPr>
            <a:xfrm>
              <a:off x="541080" y="596520"/>
              <a:ext cx="8602920" cy="81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3200" spc="-1" strike="noStrike">
                  <a:solidFill>
                    <a:srgbClr val="ffffff"/>
                  </a:solidFill>
                  <a:latin typeface="DecimaWE Rg"/>
                </a:rPr>
                <a:t>PIANO DI GESTIONE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199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ffffff"/>
                  </a:solidFill>
                  <a:latin typeface="DecimaWE Rg"/>
                </a:rPr>
                <a:t>DELLE AREE “NATURA 2000” ALPI CARNICH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CasellaDiTesto 17"/>
            <p:cNvSpPr/>
            <p:nvPr/>
          </p:nvSpPr>
          <p:spPr>
            <a:xfrm>
              <a:off x="3131640" y="6516000"/>
              <a:ext cx="597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ffffff"/>
                  </a:solidFill>
                  <a:latin typeface="DecimaWE Rg"/>
                </a:rPr>
                <a:t>Tolmezzo, 25 Novembre 20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CasellaDiTesto 19"/>
            <p:cNvSpPr/>
            <p:nvPr/>
          </p:nvSpPr>
          <p:spPr>
            <a:xfrm>
              <a:off x="0" y="6525360"/>
              <a:ext cx="565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ffffff"/>
                  </a:solidFill>
                  <a:latin typeface="DecimaWE Rg"/>
                </a:rPr>
                <a:t>TAVOLO TECNICO ATTIVITÀ ESTRATTI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Rettangolo 18"/>
          <p:cNvSpPr/>
          <p:nvPr/>
        </p:nvSpPr>
        <p:spPr>
          <a:xfrm>
            <a:off x="826920" y="1878120"/>
            <a:ext cx="7993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DecimaWE Rg"/>
              </a:rPr>
              <a:t>Allo stato attuale è quindi vietato dalla normativ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DecimaWE Rg"/>
              </a:rPr>
              <a:t>Le attività in essere sono considerate compatibili, poiché già esistenti nel momento della perimetrazione dei siti N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DecimaWE Rg"/>
              </a:rPr>
              <a:t>Aprire nuove cave o ampliare le esistenti dove non previsto dagli strumenti urbanistici esisten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DecimaWE Rg"/>
              </a:rPr>
              <a:t>Va sottolineato che la gestione delle attività estrattive è legata anche al trasporto e alal viabilit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DecimaWE Rg"/>
              </a:rPr>
              <a:t>Per quanto riguardo lo sviluppo delle attività estrattive in sotterraneo, dovrà eventualmente essere oggetto di apposita valut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DecimaWE Rg"/>
              </a:rPr>
              <a:t>I progetti di ripristino ambientale all’interno dei SITI N2000 dovranno essere almeno in parte significativa rivolti ad habitat e specie di interesse comunita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5T15:10:57Z</dcterms:created>
  <dc:creator>Pro</dc:creator>
  <dc:description/>
  <dc:language>en-US</dc:language>
  <cp:lastModifiedBy>128048</cp:lastModifiedBy>
  <dcterms:modified xsi:type="dcterms:W3CDTF">2011-11-21T16:41:00Z</dcterms:modified>
  <cp:revision>42</cp:revision>
  <dc:subject/>
  <dc:title>Diapositiva 1</dc:title>
</cp:coreProperties>
</file>