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0.wmf" ContentType="image/x-wmf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5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C438-0995-4FEC-968A-1435E3E5409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5D13-BDFD-4307-A8DD-CAFF29B52E8D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31960" y="744480"/>
            <a:ext cx="5148000" cy="3861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42640" y="353124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0832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324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420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4264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324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420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0832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94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19.wmf"/><Relationship Id="rId8" Type="http://schemas.openxmlformats.org/officeDocument/2006/relationships/package" Target="../embeddings/oleObject2.xlsx"/><Relationship Id="rId9" Type="http://schemas.openxmlformats.org/officeDocument/2006/relationships/image" Target="../media/image20.wmf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5886360"/>
            <a:ext cx="9144000" cy="971640"/>
          </a:xfrm>
          <a:prstGeom prst="rect">
            <a:avLst/>
          </a:prstGeom>
          <a:ln w="0">
            <a:noFill/>
          </a:ln>
        </p:spPr>
      </p:pic>
      <p:sp>
        <p:nvSpPr>
          <p:cNvPr id="46" name="CasellaDiTesto 28"/>
          <p:cNvSpPr/>
          <p:nvPr/>
        </p:nvSpPr>
        <p:spPr>
          <a:xfrm>
            <a:off x="3203640" y="595008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ecimaWE Rg"/>
              </a:rPr>
              <a:t>25 novembre 2011 –  Ore 14.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ecimaWE Rg"/>
              </a:rPr>
              <a:t>Provincia di Udine, Sede di Tolmezz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ecimaWE Rg"/>
              </a:rPr>
              <a:t>Via Carnia Libera 1944, 39 Tolmezz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rcRect l="3363" t="0" r="1872" b="0"/>
          <a:stretch/>
        </p:blipFill>
        <p:spPr>
          <a:xfrm>
            <a:off x="539640" y="692280"/>
            <a:ext cx="860436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CasellaDiTesto 22"/>
          <p:cNvSpPr/>
          <p:nvPr/>
        </p:nvSpPr>
        <p:spPr>
          <a:xfrm>
            <a:off x="979560" y="851040"/>
            <a:ext cx="6843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DecimaWE Rg"/>
              </a:rPr>
              <a:t>PIANO DI GESTIO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DecimaWE Rg"/>
              </a:rPr>
              <a:t>DELLE AREE “NATURA 2000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DecimaWE Rg"/>
              </a:rPr>
              <a:t>ALPI CARNI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23"/>
          <p:cNvSpPr/>
          <p:nvPr/>
        </p:nvSpPr>
        <p:spPr>
          <a:xfrm>
            <a:off x="684720" y="849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DecimaWE Rg"/>
              </a:rPr>
              <a:t>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24"/>
          <p:cNvSpPr/>
          <p:nvPr/>
        </p:nvSpPr>
        <p:spPr>
          <a:xfrm>
            <a:off x="979560" y="1881360"/>
            <a:ext cx="440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DecimaWE Rg"/>
              </a:rPr>
              <a:t>ZPS IT3321001 Alpi Carniche – SIC IT3320001 Gruppo del M.te Coglians – SIC IT3320002 Monti Dimon e Paularo – SIC IT3320003 Creta di Aip e Sella di Lanza – SIC IT3320004 Monte Auernig e Monte Coro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25" descr="bandiera2italia.gif"/>
          <p:cNvPicPr/>
          <p:nvPr/>
        </p:nvPicPr>
        <p:blipFill>
          <a:blip r:embed="rId3"/>
          <a:stretch/>
        </p:blipFill>
        <p:spPr>
          <a:xfrm>
            <a:off x="5896080" y="115920"/>
            <a:ext cx="736560" cy="468360"/>
          </a:xfrm>
          <a:prstGeom prst="rect">
            <a:avLst/>
          </a:prstGeom>
          <a:ln w="0">
            <a:noFill/>
          </a:ln>
        </p:spPr>
      </p:pic>
      <p:pic>
        <p:nvPicPr>
          <p:cNvPr id="52" name="Immagine 27" descr="Logo_N2000.jpg"/>
          <p:cNvPicPr/>
          <p:nvPr/>
        </p:nvPicPr>
        <p:blipFill>
          <a:blip r:embed="rId4"/>
          <a:stretch/>
        </p:blipFill>
        <p:spPr>
          <a:xfrm>
            <a:off x="8172360" y="44280"/>
            <a:ext cx="784440" cy="611280"/>
          </a:xfrm>
          <a:prstGeom prst="rect">
            <a:avLst/>
          </a:prstGeom>
          <a:ln w="0">
            <a:noFill/>
          </a:ln>
        </p:spPr>
      </p:pic>
      <p:pic>
        <p:nvPicPr>
          <p:cNvPr id="53" name="Immagine 29" descr="europa.tif"/>
          <p:cNvPicPr/>
          <p:nvPr/>
        </p:nvPicPr>
        <p:blipFill>
          <a:blip r:embed="rId5"/>
          <a:stretch/>
        </p:blipFill>
        <p:spPr>
          <a:xfrm>
            <a:off x="2556000" y="165240"/>
            <a:ext cx="1800000" cy="38412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30"/>
          <p:cNvSpPr/>
          <p:nvPr/>
        </p:nvSpPr>
        <p:spPr>
          <a:xfrm>
            <a:off x="454320" y="30099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DecimaWE Rg"/>
              </a:rPr>
              <a:t>TAVOLI TEMATIC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32"/>
          <p:cNvSpPr/>
          <p:nvPr/>
        </p:nvSpPr>
        <p:spPr>
          <a:xfrm>
            <a:off x="684360" y="3546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DecimaWE Rg"/>
              </a:rPr>
              <a:t>TAVOLO TECNICO GESTIONE DEL BOSC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ttore 1 33"/>
          <p:cNvSpPr/>
          <p:nvPr/>
        </p:nvSpPr>
        <p:spPr>
          <a:xfrm>
            <a:off x="826920" y="4869000"/>
            <a:ext cx="765684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sellaDiTesto 34"/>
          <p:cNvSpPr/>
          <p:nvPr/>
        </p:nvSpPr>
        <p:spPr>
          <a:xfrm>
            <a:off x="684360" y="5138640"/>
            <a:ext cx="295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DecimaWE Rg"/>
              </a:rPr>
              <a:t>PARTECIPA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DecimaWE Rg"/>
              </a:rPr>
              <a:t>significa essere protagonisti delle scelte di sviluppo del proprio territorio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19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1"/>
          <p:cNvSpPr/>
          <p:nvPr/>
        </p:nvSpPr>
        <p:spPr>
          <a:xfrm>
            <a:off x="609480" y="1371600"/>
            <a:ext cx="80773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Misure di conservazione regionali dei Sic della Regione Alpina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Arial"/>
              </a:rPr>
              <a:t>(in fase di adozion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Specifiche per spec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Limitazione attività selvicolturali nei periodi riproduttivi individuati dal Piano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falconiformi: febbraio-lugl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strigiformi: gennaio-magg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piciformi: marzo-lugl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galliformi: indicato nel Piano( valido anche per la costruzione delle stra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-139320" y="6095880"/>
            <a:ext cx="959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Queste misure non saranno generalizzate ma saranno limitate ai siti riproduttivi individuati nel Piano di Gest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D:\Documents and Settings\admin\Documenti\Committenti\Regione\Natura 2000 Alpi Carniche\Valutativa\Galliformi vs bosco produttivo.JPG"/>
          <p:cNvPicPr/>
          <p:nvPr/>
        </p:nvPicPr>
        <p:blipFill>
          <a:blip r:embed="rId6"/>
          <a:srcRect l="0" t="2067" r="0" b="16634"/>
          <a:stretch/>
        </p:blipFill>
        <p:spPr>
          <a:xfrm>
            <a:off x="457200" y="3429000"/>
            <a:ext cx="833436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Oval 14"/>
          <p:cNvSpPr/>
          <p:nvPr/>
        </p:nvSpPr>
        <p:spPr>
          <a:xfrm>
            <a:off x="777960" y="532296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1059480" y="5257800"/>
            <a:ext cx="25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ee sensibili per galliform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1065240" y="55627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sco produttiv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685800" y="5638680"/>
            <a:ext cx="304920" cy="1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20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28"/>
          <p:cNvSpPr/>
          <p:nvPr/>
        </p:nvSpPr>
        <p:spPr>
          <a:xfrm>
            <a:off x="685800" y="1523880"/>
            <a:ext cx="8278920" cy="46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Misure di conservazione regionali dei Sic della Regione Alpina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Arial"/>
              </a:rPr>
              <a:t>(in fase di adozion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Rilascio alberi vivi di grosse dimensio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Mantenimento radure in bosc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Individuazione di aree forestali ad elevato livello naturalistico da lasciare a libera evolu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Conservazione spessine di abete rosso-larice vicino ai pascoli (strigiformi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Queste misure di conservazione, fatte in attesa dei Piani di Gestione, saranno successivamente riprese e riviste e contestualizzate all’interno della fase esecutiva di redazione del Pian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1035"/>
          <p:cNvSpPr/>
          <p:nvPr/>
        </p:nvSpPr>
        <p:spPr>
          <a:xfrm>
            <a:off x="838080" y="1295280"/>
            <a:ext cx="755964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Possibili misure introdotte con il Piano di Gesti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– contributo-incentivo per la realizzazione dei piani di gestione forestali, piani integrati, schede forestali per le proprietà priv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,GA – contributi per gli interventi di miglioramento degli impianti di abete ros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,GA – incentivi per il mantenimento di radure interne al bosco in zone con utilizzazioni non convenient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 –individuazione preventiva di piante con cavità e se possibile di piante di grosse dimensioni (soprattutto faggi e abete bianco) da rilasciare nelle aree soggette a utilizzazioni boschiv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36" descr="D:\Documents and Settings\admin\Documenti\Committenti\Regione\Natura 2000 Alpi Carniche\Valutativa\Ridimensiona diDSCN8512.JPG"/>
          <p:cNvPicPr/>
          <p:nvPr/>
        </p:nvPicPr>
        <p:blipFill>
          <a:blip r:embed="rId6"/>
          <a:stretch/>
        </p:blipFill>
        <p:spPr>
          <a:xfrm>
            <a:off x="914400" y="42670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37" descr="D:\Documents and Settings\admin\Documenti\Committenti\Regione\Natura 2000 Alpi Carniche\Valutativa\Ridimensiona diDSCN7875.JPG"/>
          <p:cNvPicPr/>
          <p:nvPr/>
        </p:nvPicPr>
        <p:blipFill>
          <a:blip r:embed="rId7"/>
          <a:stretch/>
        </p:blipFill>
        <p:spPr>
          <a:xfrm>
            <a:off x="3886200" y="426708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38" descr="D:\Documents and Settings\admin\Documenti\Committenti\Regione\Natura 2000 Alpi Carniche\Valutativa\Ridimensiona diDSCN6408.JPG"/>
          <p:cNvPicPr/>
          <p:nvPr/>
        </p:nvPicPr>
        <p:blipFill>
          <a:blip r:embed="rId8"/>
          <a:stretch/>
        </p:blipFill>
        <p:spPr>
          <a:xfrm>
            <a:off x="6934320" y="3886200"/>
            <a:ext cx="1885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23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11" descr=""/>
          <p:cNvPicPr/>
          <p:nvPr/>
        </p:nvPicPr>
        <p:blipFill>
          <a:blip r:embed="rId6"/>
          <a:stretch/>
        </p:blipFill>
        <p:spPr>
          <a:xfrm>
            <a:off x="1066680" y="1523880"/>
            <a:ext cx="3186360" cy="46227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2"/>
          <p:cNvSpPr/>
          <p:nvPr/>
        </p:nvSpPr>
        <p:spPr>
          <a:xfrm>
            <a:off x="4267080" y="15238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1515"/>
                </a:solidFill>
                <a:latin typeface="Tahoma"/>
              </a:rPr>
              <a:t>Ogni albero con cavità abbattuto significa la perdita di un gran numero di opportunità di potenziali colonizzazioni. Per la ditta boschiva invece è la perdita di un toppo già pagato. Meglio controllare prima e individuare gli alberi con cavità e quelli già interessati dall’opera dei picchi per favorire questi uccelli</a:t>
            </a:r>
            <a:r>
              <a:rPr b="0" lang="en-US" sz="1800" spc="-1" strike="noStrike">
                <a:solidFill>
                  <a:srgbClr val="151515"/>
                </a:solidFill>
                <a:latin typeface="TimesNewRomanPSMT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5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035"/>
          <p:cNvSpPr/>
          <p:nvPr/>
        </p:nvSpPr>
        <p:spPr>
          <a:xfrm>
            <a:off x="609480" y="1600200"/>
            <a:ext cx="46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94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oreste alpine 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Larix decidu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/o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inus cemb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36"/>
          <p:cNvSpPr/>
          <p:nvPr/>
        </p:nvSpPr>
        <p:spPr>
          <a:xfrm>
            <a:off x="528120" y="563868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o di conservazione A = valore eccell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37" descr="D:\Documents and Settings\admin\Documenti\Committenti\Regione\Natura 2000 Alpi Carniche\Valutativa\9420.jpg"/>
          <p:cNvPicPr/>
          <p:nvPr/>
        </p:nvPicPr>
        <p:blipFill>
          <a:blip r:embed="rId6"/>
          <a:stretch/>
        </p:blipFill>
        <p:spPr>
          <a:xfrm>
            <a:off x="533520" y="2514600"/>
            <a:ext cx="8439120" cy="301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38" descr=""/>
          <p:cNvPicPr/>
          <p:nvPr/>
        </p:nvPicPr>
        <p:blipFill>
          <a:blip r:embed="rId7"/>
          <a:stretch/>
        </p:blipFill>
        <p:spPr>
          <a:xfrm>
            <a:off x="6095880" y="160020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39"/>
          <p:cNvSpPr/>
          <p:nvPr/>
        </p:nvSpPr>
        <p:spPr>
          <a:xfrm>
            <a:off x="762120" y="4495680"/>
            <a:ext cx="304560" cy="1526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40"/>
          <p:cNvSpPr/>
          <p:nvPr/>
        </p:nvSpPr>
        <p:spPr>
          <a:xfrm>
            <a:off x="762120" y="4800600"/>
            <a:ext cx="304560" cy="152280"/>
          </a:xfrm>
          <a:prstGeom prst="rect">
            <a:avLst/>
          </a:prstGeom>
          <a:noFill/>
          <a:ln w="28440">
            <a:solidFill>
              <a:srgbClr val="99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41"/>
          <p:cNvSpPr/>
          <p:nvPr/>
        </p:nvSpPr>
        <p:spPr>
          <a:xfrm>
            <a:off x="1128600" y="4430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2"/>
          <p:cNvSpPr/>
          <p:nvPr/>
        </p:nvSpPr>
        <p:spPr>
          <a:xfrm>
            <a:off x="1144800" y="47242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7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035"/>
          <p:cNvSpPr/>
          <p:nvPr/>
        </p:nvSpPr>
        <p:spPr>
          <a:xfrm>
            <a:off x="526680" y="1447920"/>
            <a:ext cx="452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941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oreste acidofile 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ice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 montane ad alpi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accinio-Piceete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36"/>
          <p:cNvSpPr/>
          <p:nvPr/>
        </p:nvSpPr>
        <p:spPr>
          <a:xfrm>
            <a:off x="530280" y="57150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o di conservazione B = valore bu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37" descr="D:\Documents and Settings\admin\Documenti\Committenti\Regione\Natura 2000 Alpi Carniche\Valutativa\9410.jpg"/>
          <p:cNvPicPr/>
          <p:nvPr/>
        </p:nvPicPr>
        <p:blipFill>
          <a:blip r:embed="rId6"/>
          <a:srcRect l="0" t="5242" r="0" b="13059"/>
          <a:stretch/>
        </p:blipFill>
        <p:spPr>
          <a:xfrm>
            <a:off x="533520" y="2362320"/>
            <a:ext cx="7972200" cy="319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1038" descr="D:\Documents and Settings\admin\Documenti\Committenti\Regione\Natura 2000 Alpi Carniche\Foto\Avanza\Ridimensiona diDSCN7417.JPG"/>
          <p:cNvPicPr/>
          <p:nvPr/>
        </p:nvPicPr>
        <p:blipFill>
          <a:blip r:embed="rId7"/>
          <a:stretch/>
        </p:blipFill>
        <p:spPr>
          <a:xfrm>
            <a:off x="5791320" y="144792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39"/>
          <p:cNvSpPr/>
          <p:nvPr/>
        </p:nvSpPr>
        <p:spPr>
          <a:xfrm>
            <a:off x="762120" y="4495680"/>
            <a:ext cx="304560" cy="1526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40"/>
          <p:cNvSpPr/>
          <p:nvPr/>
        </p:nvSpPr>
        <p:spPr>
          <a:xfrm>
            <a:off x="762120" y="4800600"/>
            <a:ext cx="304560" cy="152280"/>
          </a:xfrm>
          <a:prstGeom prst="rect">
            <a:avLst/>
          </a:prstGeom>
          <a:noFill/>
          <a:ln w="28440">
            <a:solidFill>
              <a:srgbClr val="99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41"/>
          <p:cNvSpPr/>
          <p:nvPr/>
        </p:nvSpPr>
        <p:spPr>
          <a:xfrm>
            <a:off x="1128600" y="4430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42"/>
          <p:cNvSpPr/>
          <p:nvPr/>
        </p:nvSpPr>
        <p:spPr>
          <a:xfrm>
            <a:off x="1144800" y="47242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9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035"/>
          <p:cNvSpPr/>
          <p:nvPr/>
        </p:nvSpPr>
        <p:spPr>
          <a:xfrm>
            <a:off x="375840" y="1447920"/>
            <a:ext cx="55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ggete e piceo fagg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911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Faggete de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Luzulo-Faget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913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Faggete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sperulo-Faget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91K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Boschi illirici 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agus sylvatic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remonio-Fagio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36"/>
          <p:cNvSpPr/>
          <p:nvPr/>
        </p:nvSpPr>
        <p:spPr>
          <a:xfrm>
            <a:off x="453960" y="579132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o di conservazione B = valore bu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7" descr="D:\Documents and Settings\admin\Documenti\Committenti\Regione\Natura 2000 Alpi Carniche\Valutativa\9110 9130 91k0.JPG"/>
          <p:cNvPicPr/>
          <p:nvPr/>
        </p:nvPicPr>
        <p:blipFill>
          <a:blip r:embed="rId6"/>
          <a:stretch/>
        </p:blipFill>
        <p:spPr>
          <a:xfrm>
            <a:off x="457200" y="2743200"/>
            <a:ext cx="8439120" cy="3019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9" descr="D:\Documents and Settings\admin\Documenti\Committenti\Regione\Natura 2000 Alpi Carniche\Foto\Dimon\Ridimensiona diDSCN8068.JPG"/>
          <p:cNvPicPr/>
          <p:nvPr/>
        </p:nvPicPr>
        <p:blipFill>
          <a:blip r:embed="rId7"/>
          <a:stretch/>
        </p:blipFill>
        <p:spPr>
          <a:xfrm>
            <a:off x="5791320" y="144792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40"/>
          <p:cNvSpPr/>
          <p:nvPr/>
        </p:nvSpPr>
        <p:spPr>
          <a:xfrm>
            <a:off x="762120" y="4495680"/>
            <a:ext cx="304560" cy="1526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41"/>
          <p:cNvSpPr/>
          <p:nvPr/>
        </p:nvSpPr>
        <p:spPr>
          <a:xfrm>
            <a:off x="762120" y="4800600"/>
            <a:ext cx="304560" cy="152280"/>
          </a:xfrm>
          <a:prstGeom prst="rect">
            <a:avLst/>
          </a:prstGeom>
          <a:noFill/>
          <a:ln w="28440">
            <a:solidFill>
              <a:srgbClr val="99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42"/>
          <p:cNvSpPr/>
          <p:nvPr/>
        </p:nvSpPr>
        <p:spPr>
          <a:xfrm>
            <a:off x="1128600" y="4430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43"/>
          <p:cNvSpPr/>
          <p:nvPr/>
        </p:nvSpPr>
        <p:spPr>
          <a:xfrm>
            <a:off x="1144800" y="47242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110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035"/>
          <p:cNvSpPr/>
          <p:nvPr/>
        </p:nvSpPr>
        <p:spPr>
          <a:xfrm>
            <a:off x="375480" y="16002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953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*Pinete (sub)mediterranee di pini neri endemic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528120" y="586728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o di conservazione A = valore eccell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38" descr="D:\Documents and Settings\admin\Documenti\Committenti\Regione\Natura 2000 Alpi Carniche\Valutativa\9530JPG.jpg"/>
          <p:cNvPicPr/>
          <p:nvPr/>
        </p:nvPicPr>
        <p:blipFill>
          <a:blip r:embed="rId6"/>
          <a:stretch/>
        </p:blipFill>
        <p:spPr>
          <a:xfrm>
            <a:off x="533520" y="2514600"/>
            <a:ext cx="8439120" cy="30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39" descr="D:\Documents and Settings\admin\Documenti\Committenti\Regione\Natura 2000 Alpi Carniche\Foto\Ridimensiona di007622C4.JPG"/>
          <p:cNvPicPr/>
          <p:nvPr/>
        </p:nvPicPr>
        <p:blipFill>
          <a:blip r:embed="rId7"/>
          <a:stretch/>
        </p:blipFill>
        <p:spPr>
          <a:xfrm>
            <a:off x="6019920" y="1371600"/>
            <a:ext cx="2876400" cy="2255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40"/>
          <p:cNvSpPr/>
          <p:nvPr/>
        </p:nvSpPr>
        <p:spPr>
          <a:xfrm>
            <a:off x="762120" y="4495680"/>
            <a:ext cx="304560" cy="1526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1"/>
          <p:cNvSpPr/>
          <p:nvPr/>
        </p:nvSpPr>
        <p:spPr>
          <a:xfrm>
            <a:off x="762120" y="4800600"/>
            <a:ext cx="304560" cy="152280"/>
          </a:xfrm>
          <a:prstGeom prst="rect">
            <a:avLst/>
          </a:prstGeom>
          <a:noFill/>
          <a:ln w="28440">
            <a:solidFill>
              <a:srgbClr val="99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42"/>
          <p:cNvSpPr/>
          <p:nvPr/>
        </p:nvSpPr>
        <p:spPr>
          <a:xfrm>
            <a:off x="1128600" y="4430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43"/>
          <p:cNvSpPr/>
          <p:nvPr/>
        </p:nvSpPr>
        <p:spPr>
          <a:xfrm>
            <a:off x="1144800" y="47242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12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1"/>
          <p:cNvSpPr/>
          <p:nvPr/>
        </p:nvSpPr>
        <p:spPr>
          <a:xfrm>
            <a:off x="527400" y="1447920"/>
            <a:ext cx="51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918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*Foreste di pendio, forre e ghiaioni de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Tilio-Acer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32440" y="579132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za non significati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D:\Documents and Settings\admin\Documenti\Committenti\Regione\Natura 2000 Alpi Carniche\Valutativa\9180.JPG"/>
          <p:cNvPicPr/>
          <p:nvPr/>
        </p:nvPicPr>
        <p:blipFill>
          <a:blip r:embed="rId6"/>
          <a:stretch/>
        </p:blipFill>
        <p:spPr>
          <a:xfrm>
            <a:off x="533520" y="2514600"/>
            <a:ext cx="8439120" cy="30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D:\Documents and Settings\admin\Documenti\Committenti\Regione\Natura 2000 Alpi Carniche\Foto\Ridimensiona di014720C3.JPG"/>
          <p:cNvPicPr/>
          <p:nvPr/>
        </p:nvPicPr>
        <p:blipFill>
          <a:blip r:embed="rId7"/>
          <a:stretch/>
        </p:blipFill>
        <p:spPr>
          <a:xfrm>
            <a:off x="6172200" y="1447920"/>
            <a:ext cx="2800440" cy="2101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762120" y="4495680"/>
            <a:ext cx="304560" cy="1526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762120" y="4800600"/>
            <a:ext cx="304560" cy="152280"/>
          </a:xfrm>
          <a:prstGeom prst="rect">
            <a:avLst/>
          </a:prstGeom>
          <a:noFill/>
          <a:ln w="28440">
            <a:solidFill>
              <a:srgbClr val="99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128600" y="4430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144800" y="47242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14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"/>
          <p:cNvSpPr/>
          <p:nvPr/>
        </p:nvSpPr>
        <p:spPr>
          <a:xfrm>
            <a:off x="609480" y="137160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91K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*Foreste alluvionali con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lnus glutinos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raxinus excelsior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lno-Padio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lnion incana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alicion alba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453960" y="59436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o di conservazione B = valore bu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D:\Documents and Settings\admin\Documenti\Committenti\Regione\Natura 2000 Alpi Carniche\Valutativa\91E0.JPG"/>
          <p:cNvPicPr/>
          <p:nvPr/>
        </p:nvPicPr>
        <p:blipFill>
          <a:blip r:embed="rId6"/>
          <a:stretch/>
        </p:blipFill>
        <p:spPr>
          <a:xfrm>
            <a:off x="457200" y="2819520"/>
            <a:ext cx="8439120" cy="30193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5"/>
          <p:cNvSpPr/>
          <p:nvPr/>
        </p:nvSpPr>
        <p:spPr>
          <a:xfrm>
            <a:off x="25909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4" descr=""/>
          <p:cNvPicPr/>
          <p:nvPr/>
        </p:nvPicPr>
        <p:blipFill>
          <a:blip r:embed="rId7"/>
          <a:srcRect l="18567" t="14347" r="21636" b="28494"/>
          <a:stretch/>
        </p:blipFill>
        <p:spPr>
          <a:xfrm>
            <a:off x="6019920" y="1676520"/>
            <a:ext cx="2886120" cy="2079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6"/>
          <p:cNvSpPr/>
          <p:nvPr/>
        </p:nvSpPr>
        <p:spPr>
          <a:xfrm>
            <a:off x="762120" y="4495680"/>
            <a:ext cx="304560" cy="1526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762120" y="4800600"/>
            <a:ext cx="304560" cy="152280"/>
          </a:xfrm>
          <a:prstGeom prst="rect">
            <a:avLst/>
          </a:prstGeom>
          <a:noFill/>
          <a:ln w="28440">
            <a:solidFill>
              <a:srgbClr val="99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1128600" y="4430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144800" y="47242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0" name="Object 17"/>
          <p:cNvGraphicFramePr/>
          <p:nvPr/>
        </p:nvGraphicFramePr>
        <p:xfrm>
          <a:off x="609480" y="4724280"/>
          <a:ext cx="7925040" cy="1676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1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4724280"/>
                    <a:ext cx="79250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18"/>
          <p:cNvGraphicFramePr/>
          <p:nvPr/>
        </p:nvGraphicFramePr>
        <p:xfrm>
          <a:off x="609480" y="2971800"/>
          <a:ext cx="7886880" cy="167652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73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2971800"/>
                    <a:ext cx="7886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21" descr="D:\Documents and Settings\admin\Documenti\Committenti\Regione\Natura 2000 Alpi Carniche\Valutativa\Habitat utilizzato.jpg"/>
          <p:cNvPicPr/>
          <p:nvPr/>
        </p:nvPicPr>
        <p:blipFill>
          <a:blip r:embed="rId10"/>
          <a:srcRect l="0" t="0" r="0" b="6763"/>
          <a:stretch/>
        </p:blipFill>
        <p:spPr>
          <a:xfrm>
            <a:off x="2666880" y="1371600"/>
            <a:ext cx="5800680" cy="1576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2"/>
          <p:cNvSpPr/>
          <p:nvPr/>
        </p:nvSpPr>
        <p:spPr>
          <a:xfrm>
            <a:off x="609480" y="144792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vità selvicolturale in Habit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2819520" y="2286000"/>
            <a:ext cx="304560" cy="1522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2819520" y="2514600"/>
            <a:ext cx="304560" cy="152280"/>
          </a:xfrm>
          <a:prstGeom prst="rect">
            <a:avLst/>
          </a:prstGeom>
          <a:noFill/>
          <a:ln w="28440">
            <a:solidFill>
              <a:srgbClr val="99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3186000" y="22431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201840" y="2460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2819520" y="2743200"/>
            <a:ext cx="304560" cy="152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3196800" y="266688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bitat foresta Natura 2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uppo 20"/>
          <p:cNvGrpSpPr/>
          <p:nvPr/>
        </p:nvGrpSpPr>
        <p:grpSpPr>
          <a:xfrm>
            <a:off x="0" y="7920"/>
            <a:ext cx="9144000" cy="6849360"/>
            <a:chOff x="0" y="7920"/>
            <a:chExt cx="9144000" cy="6849360"/>
          </a:xfrm>
        </p:grpSpPr>
        <p:pic>
          <p:nvPicPr>
            <p:cNvPr id="18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48900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7992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792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2780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5592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CasellaDiTesto 16"/>
            <p:cNvSpPr/>
            <p:nvPr/>
          </p:nvSpPr>
          <p:spPr>
            <a:xfrm>
              <a:off x="541080" y="56016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CasellaDiTesto 17"/>
            <p:cNvSpPr/>
            <p:nvPr/>
          </p:nvSpPr>
          <p:spPr>
            <a:xfrm>
              <a:off x="3132000" y="6478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CasellaDiTesto 19"/>
            <p:cNvSpPr/>
            <p:nvPr/>
          </p:nvSpPr>
          <p:spPr>
            <a:xfrm>
              <a:off x="0" y="648900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GESTIONE DEL BOS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CasellaDiTesto 10"/>
          <p:cNvSpPr/>
          <p:nvPr/>
        </p:nvSpPr>
        <p:spPr>
          <a:xfrm>
            <a:off x="533520" y="1295280"/>
            <a:ext cx="835812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Misure di conservazione dei Sic della Regione Alp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Generali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RE - Divieto di realizzazione di nuova viabilità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circolar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, quando ciò non sia funzionale allo svolgimen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di attività agrosilvopastorali, al miglioramento gestionale degli habitat di interesse, alla cre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di fasce tagliafuoco, ad esigenze di pubblica sicurezza e qualora la stessa non sia prevista d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Piano di gestion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GA - Definizione di linee guida per la costruzione e manutenzione di nuova viabilità forestale da par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degli organi competent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IN - Incentivi per l’utilizzo di legname certificato nelle costruzioni rurali e in ediliz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IN - Incentivi per la realizzazione di interventi colturali mirati nei boschi, compatibilmente con 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caratteristiche stazionali (floristiche e faunistich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Specifiche per habitat forestal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RE - Divieto di realizzazione di imboschimenti e nuovi impianti selvicoltural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RE - È’ vietata la rinnovazione artificiale, se non per specifiche esigenze di ricostituzione, rinaturalizzazione, perpetuazione della compagine arborea da attuare con specie autoctone e coerenti con la composizione dell’habit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RE – 9410 Peccete altimontane e subalpine  Divieto di eseguire interventi selvicolturali che non garantiscano la rinnovazione e la permanenza dell’habit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RE - 9180* Aceri frassineti : divieto di governo a cedu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10:57Z</dcterms:created>
  <dc:creator>Pro</dc:creator>
  <dc:description/>
  <dc:language>en-US</dc:language>
  <cp:lastModifiedBy>128048</cp:lastModifiedBy>
  <dcterms:modified xsi:type="dcterms:W3CDTF">2012-02-14T09:18:42Z</dcterms:modified>
  <cp:revision>41</cp:revision>
  <dc:subject/>
  <dc:title>Diapositiva 1</dc:title>
</cp:coreProperties>
</file>