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90436-7749-4BCA-BB46-43F35A03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0323A-0A43-468D-A638-B09DD332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D45B5-FB38-40DE-9086-399A927B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284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528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040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284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528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139F-B3A4-4569-9DB7-C30DAE63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DDD6-BFB7-4B5E-8096-4CEE5A78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5277-54E8-48DA-9BB2-514BD4B5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EDED-FCAC-42DF-B5A2-36D27817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EDB6-7FE6-48C6-984C-7C3A6A6C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42AE-97AB-4B01-8A16-AD9D009F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050560" y="115920"/>
            <a:ext cx="6697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2A68-0916-4124-9E49-23F24C31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388C-3ED4-47B2-8C54-8503D517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F445A-72A0-4009-8AA3-D6433D9E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20DD-295A-43E7-A1E4-1FD68690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D598-12FE-4237-8C57-B4C4BA66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735B-CC09-4AAD-8123-F5880A9F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897E-766D-421D-8252-41846FF3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7284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55280" y="90792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040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7284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55280" y="3636000"/>
            <a:ext cx="264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4E85-846E-421D-85ED-B42E02C7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BD9A0-3441-41B4-8152-1EE4DA10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BF2D-51E5-4DA4-B18B-10320E93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8FCA-7883-4670-8AFA-97328ABB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50560" y="115920"/>
            <a:ext cx="669780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84DD6-CEBD-40A9-AC3C-EAA52CAD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D1136-710E-42AC-8C27-52BF4162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7440" y="363600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D50E8-EDF2-46CA-8579-0C8BFC43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040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7440" y="907920"/>
            <a:ext cx="40158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0400" y="3636000"/>
            <a:ext cx="822960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8F5DD-5E1B-4EFD-A8A4-84D5511A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DecimaWE 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EBB4-D4EE-4FCE-A55B-2AACC25541B1}" type="slidenum">
              <a:rPr b="0" lang="it-IT" sz="1200" spc="-1" strike="noStrike">
                <a:solidFill>
                  <a:srgbClr val="000000"/>
                </a:solidFill>
                <a:latin typeface="DecimaWE R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DecimaWE Rg"/>
              </a:rPr>
              <a:t>Click to edit the title text format</a:t>
            </a: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1" marL="669960" indent="-32544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2" marL="1022400" indent="-35100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3" marL="1339920" indent="-31608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4" marL="1681200" indent="-339840"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38280" y="6243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15920"/>
            <a:ext cx="66978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DecimaWE Rg"/>
              </a:rPr>
              <a:t>Click to edit the title text format</a:t>
            </a:r>
            <a:endParaRPr b="0" lang="en-US" sz="3200" spc="-1" strike="noStrike">
              <a:solidFill>
                <a:srgbClr val="0000ff"/>
              </a:solidFill>
              <a:latin typeface="DecimaWE Rg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1" marL="669960" indent="-32544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2" marL="1022400" indent="-351000">
              <a:spcBef>
                <a:spcPts val="64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3" marL="1339920" indent="-316080">
              <a:spcBef>
                <a:spcPts val="64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4" marL="1681200" indent="-339840"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DecimaWE Rg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DecimaWE Rg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B554-960F-47C3-905A-B3D60035CFB3}" type="slidenum">
              <a:rPr b="0" lang="it-IT" sz="1200" spc="-1" strike="noStrike">
                <a:solidFill>
                  <a:srgbClr val="000000"/>
                </a:solidFill>
                <a:latin typeface="DecimaWE Rg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90040" y="1052640"/>
            <a:ext cx="78692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CONSULTAZIONE PARTENARIATO AREE INTERNE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PROGRAMMA TRANSFRONTALIERO 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INTERREG ITALIA-AUSTRIA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23/09/2020 Moggio Udinese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85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pic>
        <p:nvPicPr>
          <p:cNvPr id="86" name="Immagine 4" descr="http://www.regione.fvg.it/rafvg/export/sites/default/RAFVG/fondi-europei-fvg-internazionale/POLITICHE_DI_COESIONE_2021-2027/img/politicheDiCoesione2021_2027infografica.png"/>
          <p:cNvPicPr/>
          <p:nvPr/>
        </p:nvPicPr>
        <p:blipFill>
          <a:blip r:embed="rId2"/>
          <a:stretch/>
        </p:blipFill>
        <p:spPr>
          <a:xfrm>
            <a:off x="2987640" y="4292640"/>
            <a:ext cx="338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68000" y="83628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99"/>
                </a:solidFill>
                <a:latin typeface="DecimaWE Rg"/>
                <a:ea typeface="Arial"/>
              </a:rPr>
              <a:t>GRAZIE PER L’ATTENZIONE! </a:t>
            </a:r>
            <a:endParaRPr b="0" lang="en-US" sz="25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DecimaWE Rg"/>
                <a:ea typeface="Arial"/>
              </a:rPr>
              <a:t>Programma Interreg Italia-Austria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DecimaWE Rg"/>
                <a:ea typeface="Arial"/>
              </a:rPr>
              <a:t>Unità di coordinamento regionale per il Friuli Venezia Giulia 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Servizio relazioni internazionali e programmazione europea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Direttore di Servizio: Sandra Sodini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Referenti UCR: Susanna Buiatti - Gabriella Rigoni - Michela Grattoni -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Tiziana Pojani - Lorenzo Rizzello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Buiatti: susanna.buiatt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Rigoni: gabriella.rigon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Grattoni: michela.gratton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Pojani: tiziana.pojani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Rizzello: lorenzo.rizzello@regione.fvg.i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E-mail UCR: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interreg_italia-austria@regione.fvg.it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Sito ufficiale del programma: www.interreg.net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6729480" y="0"/>
            <a:ext cx="24145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UN’IDEA DI BAS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88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89" name="Nuvola 1"/>
          <p:cNvSpPr/>
          <p:nvPr/>
        </p:nvSpPr>
        <p:spPr>
          <a:xfrm>
            <a:off x="755640" y="1450800"/>
            <a:ext cx="7632720" cy="4680000"/>
          </a:xfrm>
          <a:prstGeom prst="pie">
            <a:avLst/>
          </a:prstGeom>
          <a:solidFill>
            <a:srgbClr val="ccec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DecimaWE Rg"/>
              </a:rPr>
              <a:t>IL VALORE AGGIUNTO TRANSFRONTALIERO COME CHIAVE DI LETTURA DELLA PROGRAMMAZIONE INTEGRATA</a:t>
            </a:r>
            <a:endParaRPr b="0" lang="en-US" sz="24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7"/>
          <p:cNvSpPr/>
          <p:nvPr/>
        </p:nvSpPr>
        <p:spPr>
          <a:xfrm>
            <a:off x="2190600" y="1224000"/>
            <a:ext cx="45342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AREA DI COOPERAZION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50.000 km</a:t>
            </a:r>
            <a:r>
              <a:rPr b="1" lang="it-IT" sz="1800" spc="-1" strike="noStrike" baseline="30000">
                <a:solidFill>
                  <a:srgbClr val="000000"/>
                </a:solidFill>
                <a:latin typeface="DecimaWE Rg"/>
                <a:ea typeface="Arial"/>
              </a:rPr>
              <a:t>2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  <a:ea typeface="Arial"/>
              </a:rPr>
              <a:t>- 5,5 Mio abitanti                                       5 regioni + 1 provincia - 19 aree NUTS 3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91" name="Picture 46" descr="karte_interreg"/>
          <p:cNvPicPr/>
          <p:nvPr/>
        </p:nvPicPr>
        <p:blipFill>
          <a:blip r:embed="rId1"/>
          <a:stretch/>
        </p:blipFill>
        <p:spPr>
          <a:xfrm>
            <a:off x="2843280" y="2395440"/>
            <a:ext cx="6246720" cy="3780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9"/>
          <p:cNvSpPr/>
          <p:nvPr/>
        </p:nvSpPr>
        <p:spPr>
          <a:xfrm>
            <a:off x="6072120" y="20289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DecimaWE Rg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sp>
        <p:nvSpPr>
          <p:cNvPr id="93" name="Text Box 50"/>
          <p:cNvSpPr/>
          <p:nvPr/>
        </p:nvSpPr>
        <p:spPr>
          <a:xfrm>
            <a:off x="539640" y="2211480"/>
            <a:ext cx="22100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1) Alto Adige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Bolzano         </a:t>
            </a: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2) Veneto</a:t>
            </a:r>
            <a:r>
              <a:rPr b="1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Belluno, Vicenza, Treviso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3) Friuli Venezia Giulia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Pordenone, Udine, Gorizia, Trieste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4) Carinzia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Klagenfurt-Villach, Unterkärnten, Oberkärnten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5) Salisburgo: 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Lungau, Pinzgau-Pongau, Salzburg und Umgebung</a:t>
            </a: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a"/>
                </a:solidFill>
                <a:latin typeface="DecimaWE Rg"/>
                <a:ea typeface="Arial"/>
              </a:rPr>
              <a:t>6) Tirolo</a:t>
            </a:r>
            <a:r>
              <a:rPr b="1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:</a:t>
            </a:r>
            <a:r>
              <a:rPr b="0" lang="it-IT" sz="1600" spc="-1" strike="noStrike">
                <a:solidFill>
                  <a:srgbClr val="000000"/>
                </a:solidFill>
                <a:latin typeface="DecimaWE Rg"/>
                <a:ea typeface="Arial"/>
              </a:rPr>
              <a:t> Tiroler Unterland, Innsbruck, Tiroler Oberland, Außerfern, Osttirol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94" name="Immagine 1" descr=""/>
          <p:cNvPicPr/>
          <p:nvPr/>
        </p:nvPicPr>
        <p:blipFill>
          <a:blip r:embed="rId2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7"/>
          <p:cNvSpPr/>
          <p:nvPr/>
        </p:nvSpPr>
        <p:spPr>
          <a:xfrm>
            <a:off x="1908000" y="673200"/>
            <a:ext cx="48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INTERREG V-A ITALIA-AUSTRIA 2014-2020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904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-A ITALIA-AUSTRIA 2014-2020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97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pic>
        <p:nvPicPr>
          <p:cNvPr id="98" name="Immagine 8" descr=""/>
          <p:cNvPicPr/>
          <p:nvPr/>
        </p:nvPicPr>
        <p:blipFill>
          <a:blip r:embed="rId2"/>
          <a:stretch/>
        </p:blipFill>
        <p:spPr>
          <a:xfrm>
            <a:off x="1042920" y="1576440"/>
            <a:ext cx="5689800" cy="1204920"/>
          </a:xfrm>
          <a:prstGeom prst="rect">
            <a:avLst/>
          </a:prstGeom>
          <a:ln w="0">
            <a:noFill/>
          </a:ln>
        </p:spPr>
      </p:pic>
      <p:pic>
        <p:nvPicPr>
          <p:cNvPr id="99" name="Immagine 11" descr=""/>
          <p:cNvPicPr/>
          <p:nvPr/>
        </p:nvPicPr>
        <p:blipFill>
          <a:blip r:embed="rId3"/>
          <a:stretch/>
        </p:blipFill>
        <p:spPr>
          <a:xfrm>
            <a:off x="1036800" y="3100320"/>
            <a:ext cx="713556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04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-A ITALIA-AUSTRIA 2014-2020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CLLD HEurOpen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Sviluppo regionale a livello locale nell’ambito delle priorità «crescita intelligente», «crescita sostenibile» e «crescita inclusiva»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ree dei GAL Region Hermagor (KAR), GAL Openleader (FVG) e GAL Euroleader (FVG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Bandi a sportello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01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pic>
        <p:nvPicPr>
          <p:cNvPr id="102" name="Immagine 4" descr=""/>
          <p:cNvPicPr/>
          <p:nvPr/>
        </p:nvPicPr>
        <p:blipFill>
          <a:blip r:embed="rId2"/>
          <a:stretch/>
        </p:blipFill>
        <p:spPr>
          <a:xfrm>
            <a:off x="700200" y="5229360"/>
            <a:ext cx="7842240" cy="1295280"/>
          </a:xfrm>
          <a:prstGeom prst="rect">
            <a:avLst/>
          </a:prstGeom>
          <a:ln w="0">
            <a:noFill/>
          </a:ln>
        </p:spPr>
      </p:pic>
      <p:pic>
        <p:nvPicPr>
          <p:cNvPr id="103" name="Immagine 1" descr=""/>
          <p:cNvPicPr/>
          <p:nvPr/>
        </p:nvPicPr>
        <p:blipFill>
          <a:blip r:embed="rId3"/>
          <a:stretch/>
        </p:blipFill>
        <p:spPr>
          <a:xfrm>
            <a:off x="711360" y="2725560"/>
            <a:ext cx="78310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90400" y="907560"/>
            <a:ext cx="82296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I-A ITALIA-AUSTRIA 2021-2027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PERCORSO PROGRAMMATORIO EFFETTUATO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2/10/2019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 Task Forc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: istituzione TF e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avvio lavori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in base a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roposte di regolamento U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e Border Orientation Paper (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BOP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Dicembre 2019-Gennaio 2020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Questionario on lin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stakeholder programma (254 risposte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14/01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I TF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: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rosecuzione lavori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in base a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documenti strategici regionali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contributi questionario on lin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e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risultati valutazione programma 2014-2020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5/03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cambio interregional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(videoconferenza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Maggio 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nterviste con UCR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(videoconferenza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vvio lavori Valutazione Ambientale Strategica (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VAS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vvio lavori Opzioni di Costo Semplificate (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OCS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6/05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II TF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(videoconferenza):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Documenti preparatori «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Analisi territorial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» e «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Risposte strategiche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alle principali sfide di sviluppo» +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4 Scenari alternativi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Luglio/Agosto 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cambio interregionale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: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 Scenari alternativi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e identificazione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otenziali azioni, progetti e beneficiari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da finanziare nel periodo 21-27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05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8000" y="155520"/>
            <a:ext cx="4824720" cy="69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I-A ITALIA-AUSTRIA 2021-2027</a:t>
            </a:r>
            <a:br>
              <a:rPr sz="2000"/>
            </a:b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STRUTTURA DEL PROGRAMMA</a:t>
            </a:r>
            <a:endParaRPr b="0" lang="en-US" sz="2000" spc="-1" strike="noStrike">
              <a:solidFill>
                <a:srgbClr val="0000ff"/>
              </a:solidFill>
              <a:latin typeface="DecimaWE Rg"/>
            </a:endParaRPr>
          </a:p>
        </p:txBody>
      </p:sp>
      <p:pic>
        <p:nvPicPr>
          <p:cNvPr id="108" name="Segnaposto contenuto 2" descr=""/>
          <p:cNvPicPr/>
          <p:nvPr/>
        </p:nvPicPr>
        <p:blipFill>
          <a:blip r:embed="rId2"/>
          <a:stretch/>
        </p:blipFill>
        <p:spPr>
          <a:xfrm>
            <a:off x="782640" y="907920"/>
            <a:ext cx="7845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  <a:ea typeface="Arial"/>
              </a:rPr>
              <a:t>INTERREG VI-A ITALIA-AUSTRIA 2021-2027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PERCORSO PROGRAMMATORIO DA EFFETTUAR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ettembre 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Prima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bozza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del programma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 algn="just"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29/09/2020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 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IV TF (verrà effettuata la scelta tra i 2 Scenari alternativi : lo scenario A è maggiormente supportato)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Settembre-Ottobre 2020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Consultazione stakeholder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programma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Novembre 2020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– </a:t>
            </a:r>
            <a:r>
              <a:rPr b="1" lang="it-IT" sz="1800" spc="-1" strike="noStrike">
                <a:solidFill>
                  <a:srgbClr val="000000"/>
                </a:solidFill>
                <a:latin typeface="DecimaWE Rg"/>
              </a:rPr>
              <a:t>Programma definitivo </a:t>
            </a:r>
            <a:r>
              <a:rPr b="0" lang="it-IT" sz="1800" spc="-1" strike="noStrike">
                <a:solidFill>
                  <a:srgbClr val="000000"/>
                </a:solidFill>
                <a:latin typeface="DecimaWE Rg"/>
              </a:rPr>
              <a:t>da presentare alla CE</a:t>
            </a: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10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04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DecimaWE Rg"/>
              </a:rPr>
              <a:t>TORNANDO ALL’IDEA DI BASE</a:t>
            </a:r>
            <a:endParaRPr b="0" lang="en-US" sz="2000" spc="-1" strike="noStrike">
              <a:solidFill>
                <a:srgbClr val="000000"/>
              </a:solidFill>
              <a:latin typeface="DecimaWE Rg"/>
            </a:endParaRPr>
          </a:p>
        </p:txBody>
      </p:sp>
      <p:pic>
        <p:nvPicPr>
          <p:cNvPr id="112" name="Immagine 1" descr=""/>
          <p:cNvPicPr/>
          <p:nvPr/>
        </p:nvPicPr>
        <p:blipFill>
          <a:blip r:embed="rId1"/>
          <a:stretch/>
        </p:blipFill>
        <p:spPr>
          <a:xfrm>
            <a:off x="6732720" y="44280"/>
            <a:ext cx="2411280" cy="752760"/>
          </a:xfrm>
          <a:prstGeom prst="rect">
            <a:avLst/>
          </a:prstGeom>
          <a:ln w="0">
            <a:noFill/>
          </a:ln>
        </p:spPr>
      </p:pic>
      <p:sp>
        <p:nvSpPr>
          <p:cNvPr id="113" name="Nuvola 1"/>
          <p:cNvSpPr/>
          <p:nvPr/>
        </p:nvSpPr>
        <p:spPr>
          <a:xfrm>
            <a:off x="755640" y="1442880"/>
            <a:ext cx="7632720" cy="4680000"/>
          </a:xfrm>
          <a:prstGeom prst="pie">
            <a:avLst/>
          </a:prstGeom>
          <a:solidFill>
            <a:srgbClr val="ccec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DecimaWE Rg"/>
              </a:rPr>
              <a:t>IL VALORE AGGIUNTO TRANSFRONTALIERO COME CHIAVE DI LETTURA DELLA PROGRAMMAZIONE INTEGRATA</a:t>
            </a:r>
            <a:endParaRPr b="0" lang="en-US" sz="2400" spc="-1" strike="noStrike">
              <a:solidFill>
                <a:srgbClr val="000000"/>
              </a:solidFill>
              <a:latin typeface="DecimaWE R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0T16:52:50Z</dcterms:created>
  <dc:creator>Grattoni Michela</dc:creator>
  <dc:description/>
  <dc:language>en-US</dc:language>
  <cp:lastModifiedBy>Grattoni Michela</cp:lastModifiedBy>
  <cp:lastPrinted>2016-12-14T12:42:49Z</cp:lastPrinted>
  <dcterms:modified xsi:type="dcterms:W3CDTF">2020-09-17T15:38:30Z</dcterms:modified>
  <cp:revision>639</cp:revision>
  <dc:subject/>
  <dc:title>Slide Interreg Italia-Austria 2021-2027_21 luglio 2020</dc:title>
</cp:coreProperties>
</file>